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4909-36AC-4444-B717-EF6C97526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338F-C3AD-4D4D-8938-31219A164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8D2-DCA8-4BDB-936F-75F1C8BF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8597-087E-442E-BA4B-E0F071D7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8CC-12B9-4415-888B-DED08BB5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F12-1BE3-44B3-8AA1-82432912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D95-4495-4E59-B16D-5D237DCB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73FE-D57E-44F1-B2FC-3573F2BC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B0C5-521F-45D9-AD29-029370BF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D3C6-51C2-4AAA-BAA4-1D28D2FF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43D1-3897-4217-80E9-D9110B1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40B7-9ED9-4D04-8A49-99D12F4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182F-A86E-43CA-8CBE-BB962D3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CF14-020F-4507-A4DC-848C668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3B4-0A12-490B-AE11-8C447794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7E86-CED4-43CE-BCDC-18AE63B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762E-1E9B-474B-B380-A05560E5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B9AD-558E-495A-A532-E5E89F51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7F4D-673C-45DF-B2E4-1236E808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9E24-5095-45C1-A239-5607CBAF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94A9-92FD-4999-B4C4-43313493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DE21-587B-4860-91A2-FE6DCA23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87EF9-1928-4E5A-B77E-BC642381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0B974-B8AF-4D34-A540-6905C65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7A25-1DE5-42C5-B045-7BFCABC6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C4E-88B3-4EF2-8957-A3713154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900C1-838C-4D38-B336-194C1C76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1FB0-A3F3-4BA0-9D85-F34272E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DAB18-46B4-4B93-9BD7-D35D8F58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59A6D-78BB-4C6F-B830-941641B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5F1D0-45A4-4805-A6F9-47223834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9E8E-5F3C-45A0-8102-17E68142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DA7F-0A96-4066-A1F6-7D9CED8E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FB75-DBA3-45C7-BD34-0D9ED974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1FB5-31BB-4975-979D-387846A1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43C36-B507-489B-92FA-89B607B9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C34-7087-4597-8F43-C375076C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D6DC4-E63F-4500-9A25-AB7B42D7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7720D-BCFF-4F92-B793-91D4A012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F9179-D600-4EEB-A1B4-96249CE3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9D540-B4E0-43D1-BEB8-7AE2321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7C40-DDC9-4CEF-A540-34DB20CC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D9AFE-80C9-4976-B1F4-37A6CC8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128EB-48F3-44F5-8B4A-9815D517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73F7-D339-48C0-9322-E79EF85B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0DE3-BDC0-4356-A534-62186B4C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5C8B-537B-4F29-B60D-C5FD673D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876-7B59-4155-B854-875B2641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30C-52A7-4A43-9BB2-9B7EA12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697-547B-4C3C-A5F5-26E25B6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F46-ED13-4821-A2F3-EAC28A1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0A0A-EAB1-4668-8A02-5E63CB6CBFD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002-29A5-4381-BC19-D837F128775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F68-0B2F-4613-A7F3-5E45A0BA945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D7C0-F749-46D2-B3A0-61C2C493C7F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D081-B023-4832-9CDD-372867B6BEC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0AA-DCAD-460C-BC58-3F74183DDB2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54B1-8E06-496E-B928-99DA219EBFB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97AB-3900-4F8C-9346-1D9692B723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lcommunity.wordpress.com/teaching-and-learning-resources-2/" TargetMode="External"/><Relationship Id="rId3" Type="http://schemas.openxmlformats.org/officeDocument/2006/relationships/hyperlink" Target="http://tlcommunity.wordpress.com/teaching-and-learning-resources-2/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minterns.wikispaces.com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2"/>
          <a:stretch/>
        </p:blipFill>
        <p:spPr>
          <a:xfrm>
            <a:off x="281160" y="781200"/>
            <a:ext cx="8435880" cy="15778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ugust,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an evaluation she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nect these observations with the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ep your data sheets upd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st important source of evidence of what you are doing. Crucial for mid and final evalu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finished once you have them 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journal dated with feedback. May be 50 pages when finish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ly one PGG goal per les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28880" y="2282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G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4475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w and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.do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vite your cooperating teacher(s) so we can ALL read and add to your PGG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ease copy a selection of your PGG evidence and reflections to the PGG (by August 30) so that your cooperating teacher can see examples when they view it for the first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new PG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F Stewart Resource Cent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rst nations information and ideas from Cort and Ire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handle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do you engage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this skill will take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elcome / Introduction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Internship Overview: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imelin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xpectations, roles and responsibilities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Supervision/ Document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GGs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Resources - Cohort wiki: </a:t>
            </a:r>
            <a:r>
              <a:rPr b="0" lang="en-US" sz="1500" spc="-1" strike="noStrike">
                <a:solidFill>
                  <a:srgbClr val="03495c"/>
                </a:solidFill>
                <a:latin typeface="Cambria"/>
              </a:rPr>
              <a:t>http://wminterns.wikispaces.com/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Lunch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MPP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eparatio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Management (Responsible Learners!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rofessionalism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Personaliz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nit and Lesson Planning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60000"/>
              </a:lnSpc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The “Big” 4: Adaptation / Differentiation / Assessment / Inquiry-based education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Wrap up / Homework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Emma Lake Kenderdine Visit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ogle yourself because the parents will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18040" indent="-199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ypbertips hando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20680" indent="-2206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’s &amp; Don’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Lesson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Unit Plan templat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Blo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5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76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5"/>
          <p:cNvGrpSpPr/>
          <p:nvPr/>
        </p:nvGrpSpPr>
        <p:grpSpPr>
          <a:xfrm>
            <a:off x="1643040" y="4357800"/>
            <a:ext cx="2928960" cy="1928880"/>
            <a:chOff x="1643040" y="4357800"/>
            <a:chExt cx="2928960" cy="1928880"/>
          </a:xfrm>
        </p:grpSpPr>
        <p:sp>
          <p:nvSpPr>
            <p:cNvPr id="279" name="Oval 16"/>
            <p:cNvSpPr/>
            <p:nvPr/>
          </p:nvSpPr>
          <p:spPr>
            <a:xfrm>
              <a:off x="1643040" y="43578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17"/>
            <p:cNvSpPr/>
            <p:nvPr/>
          </p:nvSpPr>
          <p:spPr>
            <a:xfrm>
              <a:off x="342900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82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“Big 4”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Constantia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mework: “Big Ideas” in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”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GG Goal Table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nterns should be prepared to teach their cooperating teacher about the PGG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ship Overvie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ime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ectations, roles and responsib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sitations / Documen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de of Competencies / Ethics / CyberTi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GG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hort wiki 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wminterns.wikispace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nderdine Vis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Saskatoon on Monday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e at camp around 10a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ress for the weather but we have a classroom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l food is provided, all bedding, towels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rientation then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ing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Quiet time before supper 6: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vening gather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reakfast at 9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anoe trip to isla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eturn for lunch at 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eet after lunch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eave for Saskatoon in afterno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62520" y="4681440"/>
            <a:ext cx="1139760" cy="615960"/>
            <a:chOff x="3962520" y="4681440"/>
            <a:chExt cx="1139760" cy="615960"/>
          </a:xfrm>
        </p:grpSpPr>
        <p:pic>
          <p:nvPicPr>
            <p:cNvPr id="212" name="Right Arrow 3" descr=""/>
            <p:cNvPicPr/>
            <p:nvPr/>
          </p:nvPicPr>
          <p:blipFill>
            <a:blip r:embed="rId2"/>
            <a:stretch/>
          </p:blipFill>
          <p:spPr>
            <a:xfrm>
              <a:off x="3962520" y="4681440"/>
              <a:ext cx="1139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7 or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8 or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0080" y="2090880"/>
            <a:ext cx="1133280" cy="615960"/>
            <a:chOff x="5950080" y="2090880"/>
            <a:chExt cx="1133280" cy="615960"/>
          </a:xfrm>
        </p:grpSpPr>
        <p:pic>
          <p:nvPicPr>
            <p:cNvPr id="219" name="Right Arrow 10" descr=""/>
            <p:cNvPicPr/>
            <p:nvPr/>
          </p:nvPicPr>
          <p:blipFill>
            <a:blip r:embed="rId3"/>
            <a:stretch/>
          </p:blipFill>
          <p:spPr>
            <a:xfrm>
              <a:off x="5950080" y="2090880"/>
              <a:ext cx="11332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597040" y="2090880"/>
            <a:ext cx="1133640" cy="615960"/>
            <a:chOff x="2597040" y="2090880"/>
            <a:chExt cx="1133640" cy="615960"/>
          </a:xfrm>
        </p:grpSpPr>
        <p:pic>
          <p:nvPicPr>
            <p:cNvPr id="222" name="Right Arrow 11" descr=""/>
            <p:cNvPicPr/>
            <p:nvPr/>
          </p:nvPicPr>
          <p:blipFill>
            <a:blip r:embed="rId4"/>
            <a:stretch/>
          </p:blipFill>
          <p:spPr>
            <a:xfrm>
              <a:off x="2597040" y="2090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394400" y="3998880"/>
            <a:ext cx="1133640" cy="615960"/>
            <a:chOff x="7394400" y="3998880"/>
            <a:chExt cx="1133640" cy="615960"/>
          </a:xfrm>
        </p:grpSpPr>
        <p:pic>
          <p:nvPicPr>
            <p:cNvPr id="225" name="Right Arrow 12" descr=""/>
            <p:cNvPicPr/>
            <p:nvPr/>
          </p:nvPicPr>
          <p:blipFill>
            <a:blip r:embed="rId5"/>
            <a:stretch/>
          </p:blipFill>
          <p:spPr>
            <a:xfrm>
              <a:off x="7394400" y="39988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1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evaluation to me by November 3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17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0800" y="4913280"/>
            <a:ext cx="1133640" cy="615960"/>
            <a:chOff x="1450800" y="4913280"/>
            <a:chExt cx="1133640" cy="615960"/>
          </a:xfrm>
        </p:grpSpPr>
        <p:pic>
          <p:nvPicPr>
            <p:cNvPr id="232" name="Right Arrow 17" descr=""/>
            <p:cNvPicPr/>
            <p:nvPr/>
          </p:nvPicPr>
          <p:blipFill>
            <a:blip r:embed="rId6"/>
            <a:stretch/>
          </p:blipFill>
          <p:spPr>
            <a:xfrm>
              <a:off x="1450800" y="4913280"/>
              <a:ext cx="1133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 September 10 or 17, 9:00am - 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Constantia"/>
              </a:rPr>
              <a:t> October 8/13, 9:00 a.m. – 3:00 p.m. – STF Building, 2317 Arlington A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service # 3 (half day):  the TC and CT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tendance – arrive early and leave l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 absences to the college supervis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usion of Aboriginal Content, Knowledge and Ways of Knowing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Lesson Plans (2 formal plans each day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 Unit Pl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rst 3-5 lessons for part-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10 – 15 lessons for full time 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documentation in the PGG Goal T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 communication (including the PGG Goal Tables) with cooperating teacher and college supervisor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Roles and responsibiliti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360"/>
            <a:ext cx="6858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-planning and co-teach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paration of two units --Co-generated Unit and Independently written Un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lesson plans and other unit pla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ily pre- and post- conferences and feedb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volvement in School and Community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formal visi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3:34:48Z</dcterms:created>
  <dc:creator>user</dc:creator>
  <dc:description/>
  <dc:language>en-US</dc:language>
  <cp:lastModifiedBy>Jay Wilson</cp:lastModifiedBy>
  <dcterms:modified xsi:type="dcterms:W3CDTF">2010-08-20T04:54:14Z</dcterms:modified>
  <cp:revision>45</cp:revision>
  <dc:subject/>
  <dc:title>Internship Orientation Seminar</dc:title>
</cp:coreProperties>
</file>