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249F-10C2-4C2D-A1B8-6B2A76A17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86F3-79D3-4F3F-A579-58B6A2B54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06F0-7611-45D5-8969-536495EB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C2D-6CF2-4B42-A639-2BAE5B34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BD2-4A8E-4F72-A4A0-7EE46810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1B1-0BAD-483F-9BBF-06809E68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8CA-3DB4-453A-A24E-91A9490F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4F4F-5D7B-49EC-83A7-D976D638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FA65-C6D7-4881-A5A7-C28B0F20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D8D0-4C0E-41C4-BC6C-01470CEA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DE98-1C55-40FB-8624-EB89F41D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EB41-1BB7-4A6A-8107-F1B164EC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F33C-98F7-48B4-9397-028D8981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E248-8EAE-4EE2-93AE-A30263A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951-8C00-4E91-B120-797BF976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581C-96EB-4A5A-B186-396593F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C838-F43C-4F5F-B150-2A5C72D3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111F-5511-4B85-A0B3-00B0E1A3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8AB0-24A3-4CA1-BB9D-E59B8C12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9DCF-2CF1-407F-98B9-803C34C7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A873-788D-48FC-BF8D-D1E2550D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6EDE-C329-40B9-A9B5-9AA8C230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C8D4-B02E-4FD2-B862-FB96BDA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0547-B6B1-4D3F-AAAA-AEF8C72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940C-CE46-4D73-8333-B6AEA23C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EA0-CD7E-4239-8B5E-86FE869D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78E5-71A2-4B7B-A966-F558327D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3232-5180-4964-A3F4-4DCB5AA3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198D-CC1B-49F6-A588-E822818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96E7-4087-49BE-A3FB-E039D848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2857-4304-460B-B06A-66690FF2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2797-236F-43F8-A996-4D6FB8DA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B1BC-6CF8-43EB-8C36-BD0C7965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1D83C-8215-48A3-A34A-9447B380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D477-1B89-4D9C-A66F-0F7E4E83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1A45-689D-4C9E-983D-1F991BB7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A6F-D8BB-4ACB-ABBC-66A902EE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7AD5-ED5D-4FDA-A4A1-FD84302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3093-62AD-482B-B0DB-3C1CC95F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78E9-C9A1-4D5E-B555-B25B89E5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E986-4C73-4F90-8BAA-A7655943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9C26-78A7-4AC7-9E83-C5715FA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3E826-FD55-4E9C-8A31-56DC7591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F5F27-2DBD-4DFC-AC5C-BCE95C98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1153-8002-4D63-AB03-7DB21E81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D48F-CE9F-4802-AF65-AD7748F4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AFA-2A2D-4520-A326-C3986D04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43C-9924-4A6C-BB69-03101ABC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59F-622F-44B9-9BC1-13D66EA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723-07C5-45B5-A123-B82AAD19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5B3-6DC1-40C4-852B-12E4366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13FE-D085-4F06-94BE-AF92D992BB6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5625-8211-4BA8-A475-3DFF321EF5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F534-1639-4DC2-846B-0B8103FD39F6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2D42-4D17-4DDD-90E2-695DC2A063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3F84-8DB2-4256-9460-33FAAB2B78F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0B0C-E4DF-4959-B65E-D36EB41E941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D09A-9E90-446A-901A-4F2DB480310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7D92-9926-4C18-9984-23D63E56C5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lcommunity.wordpress.com/teaching-and-learning-resources-2/" TargetMode="External"/><Relationship Id="rId3" Type="http://schemas.openxmlformats.org/officeDocument/2006/relationships/hyperlink" Target="http://tlcommunity.wordpress.com/teaching-and-learning-resources-2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281160" y="781200"/>
            <a:ext cx="843588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ugust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n evaluation she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 these observations with the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ep your data sheets upd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important source of evidence of what you are doing. Crucial for mid and final evalu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finished once you have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journal dated with feedback. May be 50 pages when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ly one PGG goal per les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4475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and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.do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ite your cooperating teacher(s) so we can ALL read and add to your PGG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ease copy a selection of your PGG evidence and reflections to the PGG (by August 30) so that your cooperating teacher can see examples when they view it for the first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new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F Stewart Resource Cent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nations information and ideas from Cort and Ire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handle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engage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this skill will take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elcome / Introduction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Internship Overview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imeli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xpectations, roles and responsibilities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Supervision/ Document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GGs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Resources - Cohort wiki: </a:t>
            </a:r>
            <a:r>
              <a:rPr b="0" lang="en-US" sz="1500" spc="-1" strike="noStrike">
                <a:solidFill>
                  <a:srgbClr val="03495c"/>
                </a:solidFill>
                <a:latin typeface="Cambria"/>
              </a:rPr>
              <a:t>http://wminterns.wikispaces.com/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Lunc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MPP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Management (Responsible Learners!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ofessionalism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ersonaliz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Unit and Lesson Planning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he “Big” 4: Adaptation / Differentiation / Assessment / Inquiry-based educ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rap up / Homework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mma Lake Kenderdine Visi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 yourself because the parents wil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pbertips hand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’s &amp; Don’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Lesson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Unit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5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76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1643040" y="4357800"/>
            <a:ext cx="2928960" cy="1928880"/>
            <a:chOff x="1643040" y="4357800"/>
            <a:chExt cx="2928960" cy="1928880"/>
          </a:xfrm>
        </p:grpSpPr>
        <p:sp>
          <p:nvSpPr>
            <p:cNvPr id="279" name="Oval 16"/>
            <p:cNvSpPr/>
            <p:nvPr/>
          </p:nvSpPr>
          <p:spPr>
            <a:xfrm>
              <a:off x="1643040" y="43578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7"/>
            <p:cNvSpPr/>
            <p:nvPr/>
          </p:nvSpPr>
          <p:spPr>
            <a:xfrm>
              <a:off x="342900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82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“Big 4”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work: “Big Ideas” in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”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GG Goal Tab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terns should be prepared to teach their cooperating teacher about the PGG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ship 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ectations, roles and responsib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itations /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de of Competencies / Ethics / CyberT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hort wiki 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nderdine Vis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Saskatoon on Monda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 at camp around 10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ess for the weather but we have a classro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food is provided, all bedding, towels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ientation then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ing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iet time before supper 6: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vening gathe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eakfast at 9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noe trip to isl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turn for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for Saskatoon in after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62520" y="4681440"/>
            <a:ext cx="1139760" cy="615960"/>
            <a:chOff x="3962520" y="4681440"/>
            <a:chExt cx="1139760" cy="615960"/>
          </a:xfrm>
        </p:grpSpPr>
        <p:pic>
          <p:nvPicPr>
            <p:cNvPr id="212" name="Right Arrow 3" descr=""/>
            <p:cNvPicPr/>
            <p:nvPr/>
          </p:nvPicPr>
          <p:blipFill>
            <a:blip r:embed="rId2"/>
            <a:stretch/>
          </p:blipFill>
          <p:spPr>
            <a:xfrm>
              <a:off x="3962520" y="468144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7 or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8 o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0080" y="2090880"/>
            <a:ext cx="1133280" cy="615960"/>
            <a:chOff x="5950080" y="2090880"/>
            <a:chExt cx="1133280" cy="615960"/>
          </a:xfrm>
        </p:grpSpPr>
        <p:pic>
          <p:nvPicPr>
            <p:cNvPr id="219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950080" y="2090880"/>
              <a:ext cx="1133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597040" y="2090880"/>
            <a:ext cx="1133640" cy="615960"/>
            <a:chOff x="2597040" y="2090880"/>
            <a:chExt cx="1133640" cy="615960"/>
          </a:xfrm>
        </p:grpSpPr>
        <p:pic>
          <p:nvPicPr>
            <p:cNvPr id="222" name="Right Arrow 11" descr=""/>
            <p:cNvPicPr/>
            <p:nvPr/>
          </p:nvPicPr>
          <p:blipFill>
            <a:blip r:embed="rId4"/>
            <a:stretch/>
          </p:blipFill>
          <p:spPr>
            <a:xfrm>
              <a:off x="2597040" y="2090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394400" y="3998880"/>
            <a:ext cx="1133640" cy="615960"/>
            <a:chOff x="7394400" y="3998880"/>
            <a:chExt cx="1133640" cy="615960"/>
          </a:xfrm>
        </p:grpSpPr>
        <p:pic>
          <p:nvPicPr>
            <p:cNvPr id="225" name="Right Arrow 12" descr=""/>
            <p:cNvPicPr/>
            <p:nvPr/>
          </p:nvPicPr>
          <p:blipFill>
            <a:blip r:embed="rId5"/>
            <a:stretch/>
          </p:blipFill>
          <p:spPr>
            <a:xfrm>
              <a:off x="7394400" y="3998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valuation to me by November 3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17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0800" y="4913280"/>
            <a:ext cx="1133640" cy="615960"/>
            <a:chOff x="1450800" y="4913280"/>
            <a:chExt cx="1133640" cy="615960"/>
          </a:xfrm>
        </p:grpSpPr>
        <p:pic>
          <p:nvPicPr>
            <p:cNvPr id="232" name="Right Arrow 17" descr=""/>
            <p:cNvPicPr/>
            <p:nvPr/>
          </p:nvPicPr>
          <p:blipFill>
            <a:blip r:embed="rId6"/>
            <a:stretch/>
          </p:blipFill>
          <p:spPr>
            <a:xfrm>
              <a:off x="1450800" y="49132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 September 10 or 17, 9:00am - 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Constantia"/>
              </a:rPr>
              <a:t> October 8/13, 9:00 a.m. –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3 (half day):  the TC and CT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tendance – arrive early and leave 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absences to the college 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usion of Aboriginal Content, Knowledge and Ways of Kno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Lesson Plans (2 formal plans each day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Unit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rst 3-5 lessons for part-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10 – 15 lessons for full 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documentation in the PGG Goal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communication (including the PGG Goal Tables) with cooperating teacher and college supervisor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oles and responsibilit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213336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-planning and co-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ation of two units --Co-generated Unit and Independently written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lesson plans and other unit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pre- and post- conferences and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ment in School and Community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l vis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3:34:48Z</dcterms:created>
  <dc:creator>user</dc:creator>
  <dc:description/>
  <dc:language>en-US</dc:language>
  <cp:lastModifiedBy>Jay Wilson</cp:lastModifiedBy>
  <dcterms:modified xsi:type="dcterms:W3CDTF">2010-08-20T04:54:14Z</dcterms:modified>
  <cp:revision>45</cp:revision>
  <dc:subject/>
  <dc:title>Internship Orientation Seminar</dc:title>
</cp:coreProperties>
</file>