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C3AB-A07C-4951-8AEB-E113BF7E33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4301-0B54-456E-B3C3-30DDCD6A9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FDED-E31D-4BD3-A80D-F42E7FF7F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05C8-147A-4982-89C6-DB38730A8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F7F0-C858-42C8-8D2A-342FD039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A4A5-EB2E-40AD-8072-889A265A0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5B96-2938-45D0-B2EE-E6984480F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7943-9CBE-4940-805B-93A587F2E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998C-60B4-45EB-A73B-F070CDCB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E052-B79F-47A0-BA7E-6585BD71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B3B1-008E-4F44-A901-33DE8EBE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EC68-3F4A-4C1F-A89F-E06F3A33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AA0D-72CB-41DC-816C-98C6B582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A6E3-90AC-4E8A-962C-F1C18C73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1179-1C3D-4554-BD77-953282C1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702A-514F-45CC-AAD4-6347632E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524B-5432-43B1-A18C-DF70024A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AD46-99BF-47D9-9344-E1C91262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2B55-81B6-4F05-9DA0-BD2053F4F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F016-2AE0-495C-9C3D-5822FF74B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92CC9-6ACB-455D-8D16-E37E10048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C520D-F201-4AC0-9D11-45B78B07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0370F-A112-4F63-BCE1-4F0A9D31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87ACA-6417-4624-B2CC-793A60BC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416D1-D1E1-42E8-9D0C-7EE88C89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7F26-7E37-4AC6-A990-FFDCE514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8F944-F48A-4B3D-99F5-B4337518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FED49-1CE6-409D-BBFC-A367C995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22A50-4D10-4D5B-8772-1BE6F2E6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4958C-E0FB-48FA-AFF1-4403DCEF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C4871-37CC-4F03-8DBE-3D89976A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39B96-4234-4CDE-8A43-8B28009B8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2D6B2-9994-4D2C-B1ED-E726F4418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D44C4-607C-479E-8E22-477BD9AF3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82B43-0318-43E3-B3AD-8CD185F4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60AF3-7289-41C3-8135-56DA4F14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986B-0770-4DDC-86BE-7BC4C8DF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39636-D629-4E36-9F6E-2662F4AF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70515-7D2C-4F5F-9D12-ABC6629B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748D3-9877-4454-91E0-1EA6A4ED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1C318-E9A7-40FA-BD0E-14B0DE6F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4A966-D49F-43E7-9253-5397764F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08E15-B946-4C2A-8563-3659FD64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EE222-73A7-4A16-9180-4FB29EF3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E383D-FD08-46D4-A93A-4F2D8C8D0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187FF-2896-4D32-81A4-04C76E712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C0F8-8416-4E75-9544-5BA94E97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2CC1-A96A-432E-80F9-C4991344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5DD0-48E0-4F42-9D20-B8D1071A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F089-AD52-482D-9762-89C249E0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AEC2-26A2-4976-9803-10614492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759F-E6A5-4590-9AC3-BB07E76707EB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6C90-BDB8-4D37-BB4E-BEE3C1CB04A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C83F-CB98-47CD-AC13-A33798F32F45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3B6F-DA5D-4717-B922-E0B33707698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B339-304B-4A7A-A29C-1C963556542C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5DE1-2849-4B35-BB79-B2C27180960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154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6B32-8E84-41C6-AE0C-C48E2E43FE1B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86C2-C3D6-4DCB-8916-26E16D95F94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minterns.wikispaces.com/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lcommunity.wordpress.com/teaching-and-learning-resources-2/" TargetMode="External"/><Relationship Id="rId3" Type="http://schemas.openxmlformats.org/officeDocument/2006/relationships/hyperlink" Target="http://tlcommunity.wordpress.com/teaching-and-learning-resources-2/" TargetMode="Externa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minterns.wikispaces.com/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2"/>
          <a:stretch/>
        </p:blipFill>
        <p:spPr>
          <a:xfrm>
            <a:off x="281160" y="781200"/>
            <a:ext cx="8435880" cy="15778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85520" y="407196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r. Jay Wils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ugust, 201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arner focused supervi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will watch the students not yo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t a performa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will share with you what I have observ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an evaluation she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nect these observations with the PG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how achieve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how need for improve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eep your data sheets updat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sson pla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ily plann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G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G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st important source of evidence of what you are doing. Crucial for mid and final evalu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 not have to meet them 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t finished once you have them 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t checkbox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stantly revising, doing multiple entr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G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me you will do regularly others, only o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hows your grow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t all evidence comes from the classroom or school sett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gular journal dated with feedback. May be 50 pages when finish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nly one PGG goal per less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28880" y="22824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PGG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447560"/>
            <a:ext cx="8534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w and Improv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really happened in your internshi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oogle.doc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vite your cooperating teacher(s) so we can ALL read and add to your PGG goals evidence and reflections periodical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lease copy a selection of your PGG evidence and reflections to the PGG (by August 30) so that your cooperating teacher can see examples when they view it for the first ti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view new PG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sour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oup wik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wminterns.wikispaces.co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eld Servi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askatoon publ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F Stewart Resource Cent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rst nations information and ideas from Cort and Ire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unc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will make you successfu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epar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nag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fessionalis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rsonaliz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epar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ey to classroom manag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oughtful and creative daily lesson pla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epare everything you will need to teac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r co-op may not need to or is not interested in detailed prepar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have not earned that righ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ange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do you handle your classro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do you engage your stud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ssues of respe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arned and giv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veloping this skill will take ti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gend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8760" y="1499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Welcome / Introduction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Internship Overview: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Timeline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Expectations, roles and responsibilities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Supervision/ Documentation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PGGs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Resources - Cohort wiki: </a:t>
            </a:r>
            <a:r>
              <a:rPr b="0" lang="en-US" sz="1500" spc="-1" strike="noStrike">
                <a:solidFill>
                  <a:srgbClr val="03495c"/>
                </a:solidFill>
                <a:latin typeface="Cambria"/>
              </a:rPr>
              <a:t>http://wminterns.wikispaces.com/</a:t>
            </a: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Lunch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PMPP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Preparation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Management (Responsible Learners!)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Professionalism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Personalization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Unit and Lesson Planning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The “Big” 4: Adaptation / Differentiation / Assessment / Inquiry-based education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Wrap up / Homework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Emma Lake Kenderdine Visit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fessionalism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447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ssues of privacy and confidentiality are importa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fferent than small towns but everyone still knows everyone els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oogle yourself because the parents will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18040" indent="-199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ypbertips handou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r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ngua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ruly become a member of the staff.  Ask questions and get to know what is happening in the schoo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are not a student any mo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TEACHER PROFESSIONALISM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5714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o’s &amp; Don’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TF Code of Professional Competencies &amp; Ethic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ang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specially for guys. Power relationshi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at you sa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re you loo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ow you approach peop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verything you do is being interpreted by a very impressionable grou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ssu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to deal with problem stud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now the procedure for multiple absen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tacting par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ver be alone with the stud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orking with EA or 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ook for potential dang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ersonaliz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et to know your stud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nnot teach them or plan without knowing th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the first ten days or so to get an idea about who you are working with then plan your first uni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sson and Unit Plan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sson plan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Lesson Plan templat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Blo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it plan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Unit Plan templat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Blo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-generated unit proc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75" name="Group 14"/>
          <p:cNvGrpSpPr/>
          <p:nvPr/>
        </p:nvGrpSpPr>
        <p:grpSpPr>
          <a:xfrm>
            <a:off x="1643040" y="4071960"/>
            <a:ext cx="4071960" cy="2571840"/>
            <a:chOff x="1643040" y="4071960"/>
            <a:chExt cx="4071960" cy="2571840"/>
          </a:xfrm>
        </p:grpSpPr>
        <p:sp>
          <p:nvSpPr>
            <p:cNvPr id="276" name="Oval 6"/>
            <p:cNvSpPr/>
            <p:nvPr/>
          </p:nvSpPr>
          <p:spPr>
            <a:xfrm>
              <a:off x="1643040" y="4071960"/>
              <a:ext cx="4071960" cy="2571840"/>
            </a:xfrm>
            <a:prstGeom prst="ellipse">
              <a:avLst/>
            </a:prstGeom>
            <a:solidFill>
              <a:srgbClr val="c9fafc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Box 11"/>
            <p:cNvSpPr/>
            <p:nvPr/>
          </p:nvSpPr>
          <p:spPr>
            <a:xfrm>
              <a:off x="4572000" y="514368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onstantia"/>
                </a:rPr>
                <a:t>Teach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15"/>
          <p:cNvGrpSpPr/>
          <p:nvPr/>
        </p:nvGrpSpPr>
        <p:grpSpPr>
          <a:xfrm>
            <a:off x="1643040" y="4357800"/>
            <a:ext cx="2928960" cy="1928880"/>
            <a:chOff x="1643040" y="4357800"/>
            <a:chExt cx="2928960" cy="1928880"/>
          </a:xfrm>
        </p:grpSpPr>
        <p:sp>
          <p:nvSpPr>
            <p:cNvPr id="279" name="Oval 16"/>
            <p:cNvSpPr/>
            <p:nvPr/>
          </p:nvSpPr>
          <p:spPr>
            <a:xfrm>
              <a:off x="1643040" y="4357800"/>
              <a:ext cx="2928960" cy="1928880"/>
            </a:xfrm>
            <a:prstGeom prst="ellipse">
              <a:avLst/>
            </a:prstGeom>
            <a:solidFill>
              <a:srgbClr val="b5edfd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Box 17"/>
            <p:cNvSpPr/>
            <p:nvPr/>
          </p:nvSpPr>
          <p:spPr>
            <a:xfrm>
              <a:off x="3429000" y="507204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onstantia"/>
                </a:rPr>
                <a:t>Plan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18"/>
          <p:cNvGrpSpPr/>
          <p:nvPr/>
        </p:nvGrpSpPr>
        <p:grpSpPr>
          <a:xfrm>
            <a:off x="1643040" y="4643280"/>
            <a:ext cx="1785960" cy="1285920"/>
            <a:chOff x="1643040" y="4643280"/>
            <a:chExt cx="1785960" cy="1285920"/>
          </a:xfrm>
        </p:grpSpPr>
        <p:sp>
          <p:nvSpPr>
            <p:cNvPr id="282" name="Oval 19"/>
            <p:cNvSpPr/>
            <p:nvPr/>
          </p:nvSpPr>
          <p:spPr>
            <a:xfrm>
              <a:off x="1643040" y="4643280"/>
              <a:ext cx="1785960" cy="128592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20"/>
            <p:cNvSpPr/>
            <p:nvPr/>
          </p:nvSpPr>
          <p:spPr>
            <a:xfrm>
              <a:off x="1857240" y="507204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onstantia"/>
                </a:rPr>
                <a:t>Incep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“Big 4” of plan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ap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lated to content, instruction, environ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fferenti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lated to individual stud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sess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ssessment </a:t>
            </a:r>
            <a:r>
              <a:rPr b="0" i="1" lang="en-US" sz="2400" spc="-1" strike="noStrike">
                <a:solidFill>
                  <a:srgbClr val="00b050"/>
                </a:solidFill>
                <a:latin typeface="Constantia"/>
              </a:rPr>
              <a:t>of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arning, assessment </a:t>
            </a:r>
            <a:r>
              <a:rPr b="0" i="1" lang="en-US" sz="2400" spc="-1" strike="noStrike">
                <a:solidFill>
                  <a:srgbClr val="00b050"/>
                </a:solidFill>
                <a:latin typeface="Constantia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learn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quiry-based educ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eaching skills checkli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makes a teacher good 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bserve the teaching going on around yo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view checklist on wik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ink about i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will all have weakness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ow you respond to them is what is importa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p to you to be the best for every student you come into contact wi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ottom line is how is student learning is impacted by what you 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have four months to impress your coop and your princip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rap up and homewor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Questions, issues or concer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mework: “Big Ideas” in Educ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TextBox 3"/>
          <p:cNvSpPr/>
          <p:nvPr/>
        </p:nvSpPr>
        <p:spPr>
          <a:xfrm>
            <a:off x="1357200" y="3000240"/>
            <a:ext cx="5072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thnography of school/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ig Ideas” in edu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daptive dim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ifferentiated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ontent areas and teaching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esources and resource-based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rst Nations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ultural d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eacher and student support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ommunicating and reporting to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ecord kee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ivision or school major initi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071440" y="22824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rst In-servi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80880" y="19051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lanning of your first unit (3 – 5 lesson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ring a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laptop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f possi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ring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GG Goal Table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s of evidence/indicato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nterns should be prepared to teach their cooperating teacher about the PGG goals and sub-goals and how to use the goal tab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ternship Overview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imel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pectations, roles and responsibi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isitations / Documen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de of Competencies / Ethics / CyberTi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GG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hort wiki  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wminterns.wikispaces.c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Kenderdine Visi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0880" y="1599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eave Saskatoon on Monday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e at camp around 10a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ress for the weather but we have a classroo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l food is provided, all bedding, towels, et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rientation then lunch at no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eting after lunc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Quiet time before supper 6:0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vening gather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reakfast at 9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anoe trip to islan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turn for lunch at no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et after lunc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eave for Saskatoon in afterno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imelin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11" name="Right Arrow 3"/>
          <p:cNvGrpSpPr/>
          <p:nvPr/>
        </p:nvGrpSpPr>
        <p:grpSpPr>
          <a:xfrm>
            <a:off x="3962520" y="4681440"/>
            <a:ext cx="1139760" cy="615960"/>
            <a:chOff x="3962520" y="4681440"/>
            <a:chExt cx="1139760" cy="615960"/>
          </a:xfrm>
        </p:grpSpPr>
        <p:pic>
          <p:nvPicPr>
            <p:cNvPr id="212" name="Right Arrow 3" descr=""/>
            <p:cNvPicPr/>
            <p:nvPr/>
          </p:nvPicPr>
          <p:blipFill>
            <a:blip r:embed="rId2"/>
            <a:stretch/>
          </p:blipFill>
          <p:spPr>
            <a:xfrm>
              <a:off x="3962520" y="4681440"/>
              <a:ext cx="11397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 rot="10800000">
              <a:off x="4152960" y="483840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Box 4"/>
          <p:cNvSpPr/>
          <p:nvPr/>
        </p:nvSpPr>
        <p:spPr>
          <a:xfrm>
            <a:off x="304920" y="2209680"/>
            <a:ext cx="2133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w – August 2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 to know your school and the procedures for intern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5"/>
          <p:cNvSpPr/>
          <p:nvPr/>
        </p:nvSpPr>
        <p:spPr>
          <a:xfrm>
            <a:off x="3733920" y="2133720"/>
            <a:ext cx="236196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-service #1 Sept 7 or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first unit with Co-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PGG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6"/>
          <p:cNvSpPr/>
          <p:nvPr/>
        </p:nvSpPr>
        <p:spPr>
          <a:xfrm>
            <a:off x="5791320" y="274320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ing ½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term evaluation due October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7010280" y="2133720"/>
            <a:ext cx="22860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-service #2 Oct 8 or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midterm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-Tuning Unit 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Right Arrow 10"/>
          <p:cNvGrpSpPr/>
          <p:nvPr/>
        </p:nvGrpSpPr>
        <p:grpSpPr>
          <a:xfrm>
            <a:off x="5950080" y="2090880"/>
            <a:ext cx="1133280" cy="615960"/>
            <a:chOff x="5950080" y="2090880"/>
            <a:chExt cx="1133280" cy="615960"/>
          </a:xfrm>
        </p:grpSpPr>
        <p:pic>
          <p:nvPicPr>
            <p:cNvPr id="219" name="Right Arrow 10" descr=""/>
            <p:cNvPicPr/>
            <p:nvPr/>
          </p:nvPicPr>
          <p:blipFill>
            <a:blip r:embed="rId3"/>
            <a:stretch/>
          </p:blipFill>
          <p:spPr>
            <a:xfrm>
              <a:off x="5950080" y="2090880"/>
              <a:ext cx="113328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6019920" y="224784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Right Arrow 11"/>
          <p:cNvGrpSpPr/>
          <p:nvPr/>
        </p:nvGrpSpPr>
        <p:grpSpPr>
          <a:xfrm>
            <a:off x="2597040" y="2090880"/>
            <a:ext cx="1133640" cy="615960"/>
            <a:chOff x="2597040" y="2090880"/>
            <a:chExt cx="1133640" cy="615960"/>
          </a:xfrm>
        </p:grpSpPr>
        <p:pic>
          <p:nvPicPr>
            <p:cNvPr id="222" name="Right Arrow 11" descr=""/>
            <p:cNvPicPr/>
            <p:nvPr/>
          </p:nvPicPr>
          <p:blipFill>
            <a:blip r:embed="rId4"/>
            <a:stretch/>
          </p:blipFill>
          <p:spPr>
            <a:xfrm>
              <a:off x="2597040" y="2090880"/>
              <a:ext cx="11336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2666880" y="2247840"/>
              <a:ext cx="876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Right Arrow 12"/>
          <p:cNvGrpSpPr/>
          <p:nvPr/>
        </p:nvGrpSpPr>
        <p:grpSpPr>
          <a:xfrm>
            <a:off x="7394400" y="3998880"/>
            <a:ext cx="1133640" cy="615960"/>
            <a:chOff x="7394400" y="3998880"/>
            <a:chExt cx="1133640" cy="615960"/>
          </a:xfrm>
        </p:grpSpPr>
        <p:pic>
          <p:nvPicPr>
            <p:cNvPr id="225" name="Right Arrow 12" descr=""/>
            <p:cNvPicPr/>
            <p:nvPr/>
          </p:nvPicPr>
          <p:blipFill>
            <a:blip r:embed="rId5"/>
            <a:stretch/>
          </p:blipFill>
          <p:spPr>
            <a:xfrm>
              <a:off x="7394400" y="3998880"/>
              <a:ext cx="11336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 rot="10800000">
              <a:off x="7581960" y="415260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Box 13"/>
          <p:cNvSpPr/>
          <p:nvPr/>
        </p:nvSpPr>
        <p:spPr>
          <a:xfrm>
            <a:off x="2362320" y="266688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n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4"/>
          <p:cNvSpPr/>
          <p:nvPr/>
        </p:nvSpPr>
        <p:spPr>
          <a:xfrm>
            <a:off x="5715000" y="4495680"/>
            <a:ext cx="1371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1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 your Full time tea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5"/>
          <p:cNvSpPr/>
          <p:nvPr/>
        </p:nvSpPr>
        <p:spPr>
          <a:xfrm>
            <a:off x="2666880" y="4648320"/>
            <a:ext cx="129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evaluation to me by November 3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6"/>
          <p:cNvSpPr/>
          <p:nvPr/>
        </p:nvSpPr>
        <p:spPr>
          <a:xfrm>
            <a:off x="228600" y="533412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ember 17 School is 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Right Arrow 17"/>
          <p:cNvGrpSpPr/>
          <p:nvPr/>
        </p:nvGrpSpPr>
        <p:grpSpPr>
          <a:xfrm>
            <a:off x="1450800" y="4913280"/>
            <a:ext cx="1133640" cy="615960"/>
            <a:chOff x="1450800" y="4913280"/>
            <a:chExt cx="1133640" cy="615960"/>
          </a:xfrm>
        </p:grpSpPr>
        <p:pic>
          <p:nvPicPr>
            <p:cNvPr id="232" name="Right Arrow 17" descr=""/>
            <p:cNvPicPr/>
            <p:nvPr/>
          </p:nvPicPr>
          <p:blipFill>
            <a:blip r:embed="rId6"/>
            <a:stretch/>
          </p:blipFill>
          <p:spPr>
            <a:xfrm>
              <a:off x="1450800" y="4913280"/>
              <a:ext cx="11336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 rot="10800000">
              <a:off x="1638360" y="506700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Box 18"/>
          <p:cNvSpPr/>
          <p:nvPr/>
        </p:nvSpPr>
        <p:spPr>
          <a:xfrm>
            <a:off x="1447920" y="563868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ing down tea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14320" y="2282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IN-SERVICE DATES &amp; LOCATION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ervice # 1 for teacher candidates and cooperating teachers:</a:t>
            </a: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 September 10 or 17, 9:00am -  3:00 p.m. – STF Building, 2317 Arlington Aven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ervice # 2 for teacher candidates only:</a:t>
            </a:r>
            <a:r>
              <a:rPr b="1" lang="en-US" sz="2600" spc="-1" strike="noStrike">
                <a:solidFill>
                  <a:srgbClr val="083763"/>
                </a:solidFill>
                <a:latin typeface="Constantia"/>
              </a:rPr>
              <a:t> October 8/13, 9:00 a.m. – 3:00 p.m. – STF Building, 2317 Arlington Aven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ervice # 3 (half day):  the TC and CT decide when to take the half day to work on the midterm assessment.  This half day can be spent in the home schoo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EXPECTATIONS FOR THE INTER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85800" y="1714320"/>
            <a:ext cx="83152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ttendance – arrive early and leave l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port absences to the college supervis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fusion of Aboriginal Content, Knowledge and Ways of Knowing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mal Lesson Plans (2 formal plans each day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 Unit Pla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irst 3-5 lessons for part-time teach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cond 10 – 15 lessons for full time teach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gular documentation in the PGG Goal Ta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gular communication (including the PGG Goal Tables) with cooperating teacher and college supervisor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Roles and responsibiliti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2133360"/>
            <a:ext cx="68580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-planning and co-teach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paration of two units --Co-generated Unit and Independently written Uni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aily lesson plans and other unit pla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aily pre- and post- conferences and feedbac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volvement in School and Community Activ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upervi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y role is to support both you and your co-o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sess the relationship and determine if you need my hel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arner focused supervis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aching, consulting, collaborating, calibrat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y ro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bserve you in your classro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vide you with feedbac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lp you document and reflect on your experi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vide you with support when you need i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mal visits in October and Novemb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 and  post conferenc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formal visi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0T03:34:48Z</dcterms:created>
  <dc:creator>user</dc:creator>
  <dc:description/>
  <dc:language>en-US</dc:language>
  <cp:lastModifiedBy>Jay Wilson</cp:lastModifiedBy>
  <dcterms:modified xsi:type="dcterms:W3CDTF">2010-08-20T04:54:14Z</dcterms:modified>
  <cp:revision>45</cp:revision>
  <dc:subject/>
  <dc:title>Internship Orientation Seminar</dc:title>
</cp:coreProperties>
</file>