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4717-6D47-47FD-A82A-7BEBCA401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C47E-FF24-4CE6-8F0D-74A956030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5CC3-5BD9-4B47-A9A6-5BD787F5A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B02-0F85-4A0E-9843-E823B4A4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940-48F5-4554-A776-5CC5D081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159-605A-4365-A921-1801E994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EC8-15DB-43F2-A454-336D4C7E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97FD-9D00-4018-9F55-55A97447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CA7C-75EA-4919-81A2-03E709F5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06DB-9405-4B46-B6B5-DBB9A8AC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BB52-4AA6-42FB-B797-081B6506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D1EA-F43D-420B-9EEA-577A351C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4114-8791-4270-B1AF-BA29C165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2B4E-A535-472D-8259-ED579E44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063-2B13-4B4C-B5DA-72DA10D8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D357-A295-46FE-939A-1A3663F9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3E0E-6A03-4FC6-9BBD-3042B9E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68DB-A951-4E90-BD7D-FFA04DD7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5FCC-576C-495D-9EF9-E740B4AB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15EB-407C-4D85-B344-258396C3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466E0-2C2F-4C58-972E-5E0C07C6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C0C22-FCAC-4A5D-A724-08685B7E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2E70-5ABF-4358-9B84-66E0B635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10198-A677-4103-8DF1-D8BA6082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DB72-D82D-470F-9601-948D5C02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5BF-A39F-4EAE-B5C8-E872509B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E19E5-EC6B-49A1-A8C1-8290D479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46F4-9231-4ECF-B6D0-57B7845F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05F4-8D36-4200-928D-73F036F8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FA38-EF9B-4B47-BD0C-8F40C561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6C77-523E-4128-B426-4486FD4A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94D4-B2B6-425F-A4ED-05DA269D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63AD-3375-4EB9-84D7-81480032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D13D1-551F-40D3-8A76-B23CC18B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EA037-59BE-481D-B901-26BB0CF2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F6E7F-AF53-4299-84D1-69135EF0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9EC-DA88-4C7F-89A4-EC47FDED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04B87-75F2-4741-A9D0-27B43317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9CDF2-3365-420D-98D1-2EE6D459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7E36C-F5C0-4B25-843C-7231F61D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B6EB0-BF32-4576-8FB6-12671F01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44B2-0DA8-498D-9D0A-FC719E7E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08519-053E-4B08-BDF4-42A7F37C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A9EA2-A59A-4A63-97FA-FE739D82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5525A-FCF5-4833-B9BA-13B2E36E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99C64-01DF-4208-9698-1B0C4CA0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7D3-90A8-45C1-A3C9-51E7C4E4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619-29AD-462E-AF7F-980286E4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B18-C2FF-4406-A853-AB045C0F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B61-DA99-47F0-8106-31BCD3E4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322-461B-46D9-A21C-DC63611D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EFF6-57B1-475F-9F8B-B32BDC1BBB7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A735-43A1-4CE8-AF94-6F1D32F729F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D120-C5AC-4391-B167-3B6B63DED0E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BE4B-786D-4A32-92B6-19C178503D8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73C8-11C7-413E-9874-949E13BCDE0F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75F1-EF80-4B3D-9438-452CAAE7DDE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B141-3F84-4E9D-8308-A405EE9A2C8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248F-CAC8-47FB-8F1C-B6337AA015A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minterns.wikispaces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lcommunity.wordpress.com/teaching-and-learning-resources-2/" TargetMode="External"/><Relationship Id="rId3" Type="http://schemas.openxmlformats.org/officeDocument/2006/relationships/hyperlink" Target="http://tlcommunity.wordpress.com/teaching-and-learning-resources-2/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minterns.wikispace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2"/>
          <a:stretch/>
        </p:blipFill>
        <p:spPr>
          <a:xfrm>
            <a:off x="281160" y="781200"/>
            <a:ext cx="8435880" cy="1577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ugust,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n evaluation she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 these observations with the 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ep your data sheets upd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important source of evidence of what you are doing. Crucial for mid and final evalu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finished once you have them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journal dated with feedback. May be 50 pages when finish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ly one PGG goal per les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28880" y="2282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4475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and Impro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gle.do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ite your cooperating teacher(s) so we can ALL read and add to your PGG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ease copy a selection of your PGG evidence and reflections to the PGG (by August 30) so that your cooperating teacher can see examples when they view it for the first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 new 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minterns.wikispaces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F Stewart Resource Cent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rst nations information and ideas from Cort and Ire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you handle your 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you engage your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ing this skill will take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Welcome / Introduction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Internship Overview: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Timelin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Expectations, roles and responsibilities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Supervision/ Documentatio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GGs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Resources - Cohort wiki: </a:t>
            </a:r>
            <a:r>
              <a:rPr b="0" lang="en-US" sz="1500" spc="-1" strike="noStrike">
                <a:solidFill>
                  <a:srgbClr val="03495c"/>
                </a:solidFill>
                <a:latin typeface="Cambria"/>
              </a:rPr>
              <a:t>http://wminterns.wikispaces.com/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Lunch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MPP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reparatio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Management (Responsible Learners!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rofessionalism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ersonaliz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Unit and Lesson Planning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The “Big” 4: Adaptation / Differentiation / Assessment / Inquiry-based educ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Wrap up / Homework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Emma Lake Kenderdine Visit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gle yourself because the parents wil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pbertips hand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’s &amp; Don’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Lesson Plan templat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lo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Unit Plan templat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lo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5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76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5"/>
          <p:cNvGrpSpPr/>
          <p:nvPr/>
        </p:nvGrpSpPr>
        <p:grpSpPr>
          <a:xfrm>
            <a:off x="1643040" y="4357800"/>
            <a:ext cx="2928960" cy="1928880"/>
            <a:chOff x="1643040" y="4357800"/>
            <a:chExt cx="2928960" cy="1928880"/>
          </a:xfrm>
        </p:grpSpPr>
        <p:sp>
          <p:nvSpPr>
            <p:cNvPr id="279" name="Oval 16"/>
            <p:cNvSpPr/>
            <p:nvPr/>
          </p:nvSpPr>
          <p:spPr>
            <a:xfrm>
              <a:off x="1643040" y="43578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7"/>
            <p:cNvSpPr/>
            <p:nvPr/>
          </p:nvSpPr>
          <p:spPr>
            <a:xfrm>
              <a:off x="342900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82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“Big 4”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work: “Big Ideas” in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”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GG Goal Tab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terns should be prepared to teach their cooperating teacher about the PGG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nship Over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ectations, roles and responsibi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itations / Docu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de of Competencies / Ethics / CyberT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GG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hort wiki 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minterns.wikispaces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nderdine Vis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88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ave Saskatoon on Monda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 at camp around 10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ess for the weather but we have a classro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food is provided, all bedding, towels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ientation then lunch at 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eting after lu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uiet time before supper 6: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vening gather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eakfast at 9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noe trip to isl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turn for lunch at 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et after lu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ave for Saskatoon in after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62520" y="4681440"/>
            <a:ext cx="1139760" cy="615960"/>
            <a:chOff x="3962520" y="4681440"/>
            <a:chExt cx="1139760" cy="615960"/>
          </a:xfrm>
        </p:grpSpPr>
        <p:pic>
          <p:nvPicPr>
            <p:cNvPr id="212" name="Right Arrow 3" descr=""/>
            <p:cNvPicPr/>
            <p:nvPr/>
          </p:nvPicPr>
          <p:blipFill>
            <a:blip r:embed="rId2"/>
            <a:stretch/>
          </p:blipFill>
          <p:spPr>
            <a:xfrm>
              <a:off x="3962520" y="4681440"/>
              <a:ext cx="1139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7 or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8 or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0080" y="2090880"/>
            <a:ext cx="1133280" cy="615960"/>
            <a:chOff x="5950080" y="2090880"/>
            <a:chExt cx="1133280" cy="615960"/>
          </a:xfrm>
        </p:grpSpPr>
        <p:pic>
          <p:nvPicPr>
            <p:cNvPr id="219" name="Right Arrow 10" descr=""/>
            <p:cNvPicPr/>
            <p:nvPr/>
          </p:nvPicPr>
          <p:blipFill>
            <a:blip r:embed="rId3"/>
            <a:stretch/>
          </p:blipFill>
          <p:spPr>
            <a:xfrm>
              <a:off x="5950080" y="2090880"/>
              <a:ext cx="11332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597040" y="2090880"/>
            <a:ext cx="1133640" cy="615960"/>
            <a:chOff x="2597040" y="2090880"/>
            <a:chExt cx="1133640" cy="615960"/>
          </a:xfrm>
        </p:grpSpPr>
        <p:pic>
          <p:nvPicPr>
            <p:cNvPr id="222" name="Right Arrow 11" descr=""/>
            <p:cNvPicPr/>
            <p:nvPr/>
          </p:nvPicPr>
          <p:blipFill>
            <a:blip r:embed="rId4"/>
            <a:stretch/>
          </p:blipFill>
          <p:spPr>
            <a:xfrm>
              <a:off x="2597040" y="2090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394400" y="3998880"/>
            <a:ext cx="1133640" cy="615960"/>
            <a:chOff x="7394400" y="3998880"/>
            <a:chExt cx="1133640" cy="615960"/>
          </a:xfrm>
        </p:grpSpPr>
        <p:pic>
          <p:nvPicPr>
            <p:cNvPr id="225" name="Right Arrow 12" descr=""/>
            <p:cNvPicPr/>
            <p:nvPr/>
          </p:nvPicPr>
          <p:blipFill>
            <a:blip r:embed="rId5"/>
            <a:stretch/>
          </p:blipFill>
          <p:spPr>
            <a:xfrm>
              <a:off x="7394400" y="3998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evaluation to me by November 3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17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0800" y="4913280"/>
            <a:ext cx="1133640" cy="615960"/>
            <a:chOff x="1450800" y="4913280"/>
            <a:chExt cx="1133640" cy="615960"/>
          </a:xfrm>
        </p:grpSpPr>
        <p:pic>
          <p:nvPicPr>
            <p:cNvPr id="232" name="Right Arrow 17" descr=""/>
            <p:cNvPicPr/>
            <p:nvPr/>
          </p:nvPicPr>
          <p:blipFill>
            <a:blip r:embed="rId6"/>
            <a:stretch/>
          </p:blipFill>
          <p:spPr>
            <a:xfrm>
              <a:off x="1450800" y="49132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 September 10 or 17, 9:00am -  3:00 p.m. – STF Building, 2317 Arlington A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Constantia"/>
              </a:rPr>
              <a:t> October 8/13, 9:00 a.m. – 3:00 p.m. – STF Building, 2317 Arlington A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3 (half day):  the TC and CT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tendance – arrive early and leave 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absences to the college supervis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usion of Aboriginal Content, Knowledge and Ways of Knowing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Lesson Plans (2 formal plans each day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Unit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rst 3-5 lessons for part-time 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10 – 15 lessons for full time 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documentation in the PGG Goal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communication (including the PGG Goal Tables) with cooperating teacher and college supervisor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oles and responsibilit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2133360"/>
            <a:ext cx="6858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-planning and co-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paration of two units --Co-generated Unit and Independently written Un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ily lesson plans and other unit pl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ily pre- and post- conferences and feedb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lvement in School and Community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l vis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3:34:48Z</dcterms:created>
  <dc:creator>user</dc:creator>
  <dc:description/>
  <dc:language>en-US</dc:language>
  <cp:lastModifiedBy>Jay Wilson</cp:lastModifiedBy>
  <dcterms:modified xsi:type="dcterms:W3CDTF">2010-08-20T04:54:14Z</dcterms:modified>
  <cp:revision>45</cp:revision>
  <dc:subject/>
  <dc:title>Internship Orientation Seminar</dc:title>
</cp:coreProperties>
</file>