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D70A-C010-4B9E-B578-91A6C801B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449D-D10E-49F4-9FC7-F852BD8A6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3C43-DD5A-4DC6-93EE-6ED8BB052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813-CF1D-4273-9D2D-88FDF547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6F9-18FD-482A-BF11-ABCF5C0C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B1B-B8C6-402E-BF08-F5788DE3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5A5-7015-4F11-BB93-8DCC53CA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D428-E55F-424F-9D86-6E26A2C1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9F06-0B8C-4120-B48F-7891AECD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1F35-CA65-496C-926C-8A8AD2DD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B841-655B-4FE1-BF1F-6AD9C67F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5D09-BFF7-43C6-BEC6-4946AE4F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DF01-62EF-401B-AD14-44FC2E5A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276D-29FE-46FC-9901-42902C2D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896-2DBC-4116-A4ED-276983AD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5CD8-1A6E-49F4-B9AF-E86328C5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34F2-A791-47CB-9467-FC512B8F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4AEF-603E-488B-BA74-7A74762C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3FDA-62B1-4E77-BA9C-0E11A015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750D-F3B4-48CF-8C68-C995472E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22DB5-9B43-4442-B7FF-B144F7AD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57284-214A-4F31-A4FA-084DF55A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A897-1485-49E3-AC56-BBE65DBB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6DE4-9B3D-498A-B569-5BDD2B13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3479C-8C35-45A7-84F3-6F0C3540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107-9D1B-459E-B489-0C1E833B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C6C29-1355-4182-89CA-A2200937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6B1BB-41C3-4E2E-8677-3CEFFCFF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1261-84F3-43C6-9B39-4984988B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B6AB1-57AF-4270-8A83-ADA98E8A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6CB7F-F865-4BD1-94DB-39486B13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AD3B8-39C2-44E4-9439-3AD29E69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528D-3F8F-4B3E-B1DA-646313E6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FEB20-7A56-42B6-9A9D-0CE6FC1A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A1BB9-40E7-4B94-AAEC-BB0CD39C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4D603-CF5A-4A43-BACA-BCEA09DB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44F-78B4-4ECC-BF14-3A0E10F9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76DED-0570-4EDF-BEE1-211975EB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30AA2-26A9-4F04-9CE2-4FBF631B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5D550-F91F-4000-8EE6-C6BD44E0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4E7F4-8286-4D8B-A086-22B47A39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80BEC-FE57-4E67-A86B-71743FDD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A442E-BF5A-4B0C-BF5B-902214BA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4A12-3F2C-4DB8-8C61-573593EA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6351F-9EBE-4C4F-8A6E-13D0CC76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DF7D6-B2DA-42AE-BB3A-501E986D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333-9F6E-42A2-A052-92F7BF53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BE9-BB87-4142-9B73-F068733D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DB9-9471-485D-8E0E-35FC3AEF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577-6024-41B7-8767-E19AADD9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705B-D380-4CE7-BB87-D6F63020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1882-DD3C-446F-BF76-DDF40942FE7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6CAF-AFBE-451E-A12A-B9F68CF257A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06B8-51F5-4C67-8828-CAE28156F384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BC50-DED0-4A3B-A37D-4A96520A690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F98D-9543-4AA4-A827-BC5608869727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37B4-BA8B-49D6-BD51-EB8F7B86831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8160"/>
            <a:ext cx="4767120" cy="609480"/>
            <a:chOff x="4376880" y="6248160"/>
            <a:chExt cx="4767120" cy="60948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75880"/>
              <a:ext cx="476712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8160"/>
              <a:ext cx="4762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011B-BBD1-4DCA-843A-BC2A8CBBA20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C3FD-A39A-4421-9E1B-823FE167A88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472240" cy="16081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gust 24, 20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Lesson Plans (2 formal plans each da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Uni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 – 5 lessons for part-time teac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-planned with Co-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0 – 15 less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full tim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documentation in the PGP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usion of Aboriginal Content, Knowledge and Ways of Know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volvement in School and Communit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l visits /extra curr if I can swing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n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can use an evaluation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onnect my observations to the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ail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important source of evidence of what you are doing. Crucial for midterm and final e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finished if you have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r journal dated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PGP goal per l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4000" y="21333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ite your cooperating teacher(s) so we can ALL read and add to your PGP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new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ile, Wikispaces, Google.do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kinterns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wart Resource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nations information and ideas from other teachers, O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/ Introdu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ship Over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, 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on/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- Cohort wiki: </a:t>
            </a:r>
            <a:r>
              <a:rPr b="0" lang="en-US" sz="1800" spc="-1" strike="noStrike">
                <a:solidFill>
                  <a:srgbClr val="03495c"/>
                </a:solidFill>
                <a:latin typeface="Arial"/>
              </a:rPr>
              <a:t>http://saskinterns.wikispaces.com/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(Responsible Learner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nd Lesson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 up /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and evalu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s/passwor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y stuf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handle your classroo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engage your stud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ing this skill will take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k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 of professiona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is named in the s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ing is a no no, field tr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-1296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0792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 site Extensive planning tem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85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5"/>
          <p:cNvGrpSpPr/>
          <p:nvPr/>
        </p:nvGrpSpPr>
        <p:grpSpPr>
          <a:xfrm>
            <a:off x="1619280" y="4437000"/>
            <a:ext cx="2928960" cy="1928880"/>
            <a:chOff x="1619280" y="4437000"/>
            <a:chExt cx="2928960" cy="1928880"/>
          </a:xfrm>
        </p:grpSpPr>
        <p:sp>
          <p:nvSpPr>
            <p:cNvPr id="288" name="Oval 16"/>
            <p:cNvSpPr/>
            <p:nvPr/>
          </p:nvSpPr>
          <p:spPr>
            <a:xfrm>
              <a:off x="1619280" y="44370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7"/>
            <p:cNvSpPr/>
            <p:nvPr/>
          </p:nvSpPr>
          <p:spPr>
            <a:xfrm>
              <a:off x="3405240" y="51512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91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mportant part of tea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it you want your learners to kn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hows that it is what you will struggle with the m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planning/Specific plan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ekend upd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lc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ease introduce yoursel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oup will be your most important resource and suppo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arking on the most difficult task in which you have ever engag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g 4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 with your students, flexibility, takes the pressure off of you, FNMI, and offshoot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 things are not working o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have until November 15 to withdr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ships sometimes do not work the first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 problem to redo your internsh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works out better than the situation you are in curr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hip will be the most difficult task you have ever under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ong job interview. 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work: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Idea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 Goal Tabl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 should be prepared to teach their cooperating teacher about the PGP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dback c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useful part of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question you still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itter @j_wil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 717-23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966-76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242-01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y.wilson@usask.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75120" y="4687920"/>
            <a:ext cx="1120680" cy="603360"/>
            <a:chOff x="3975120" y="4687920"/>
            <a:chExt cx="1120680" cy="603360"/>
          </a:xfrm>
        </p:grpSpPr>
        <p:pic>
          <p:nvPicPr>
            <p:cNvPr id="212" name="Right Arrow 3" descr=""/>
            <p:cNvPicPr/>
            <p:nvPr/>
          </p:nvPicPr>
          <p:blipFill>
            <a:blip r:embed="rId1"/>
            <a:stretch/>
          </p:blipFill>
          <p:spPr>
            <a:xfrm>
              <a:off x="3975120" y="468792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6200" y="2097000"/>
            <a:ext cx="1121040" cy="603360"/>
            <a:chOff x="5956200" y="2097000"/>
            <a:chExt cx="1121040" cy="603360"/>
          </a:xfrm>
        </p:grpSpPr>
        <p:pic>
          <p:nvPicPr>
            <p:cNvPr id="219" name="Right Arrow 10" descr=""/>
            <p:cNvPicPr/>
            <p:nvPr/>
          </p:nvPicPr>
          <p:blipFill>
            <a:blip r:embed="rId2"/>
            <a:stretch/>
          </p:blipFill>
          <p:spPr>
            <a:xfrm>
              <a:off x="5956200" y="2097000"/>
              <a:ext cx="11210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603520" y="2097000"/>
            <a:ext cx="1120680" cy="603360"/>
            <a:chOff x="2603520" y="2097000"/>
            <a:chExt cx="1120680" cy="603360"/>
          </a:xfrm>
        </p:grpSpPr>
        <p:pic>
          <p:nvPicPr>
            <p:cNvPr id="222" name="Right Arrow 11" descr=""/>
            <p:cNvPicPr/>
            <p:nvPr/>
          </p:nvPicPr>
          <p:blipFill>
            <a:blip r:embed="rId3"/>
            <a:stretch/>
          </p:blipFill>
          <p:spPr>
            <a:xfrm>
              <a:off x="2603520" y="209700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400880" y="4005360"/>
            <a:ext cx="1120680" cy="603000"/>
            <a:chOff x="7400880" y="4005360"/>
            <a:chExt cx="1120680" cy="603000"/>
          </a:xfrm>
        </p:grpSpPr>
        <p:pic>
          <p:nvPicPr>
            <p:cNvPr id="225" name="Right Arrow 12" descr=""/>
            <p:cNvPicPr/>
            <p:nvPr/>
          </p:nvPicPr>
          <p:blipFill>
            <a:blip r:embed="rId4"/>
            <a:stretch/>
          </p:blipFill>
          <p:spPr>
            <a:xfrm>
              <a:off x="7400880" y="40053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of final evaluation to me by December 7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21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7280" y="4919760"/>
            <a:ext cx="1120680" cy="603000"/>
            <a:chOff x="1457280" y="4919760"/>
            <a:chExt cx="1120680" cy="603000"/>
          </a:xfrm>
        </p:grpSpPr>
        <p:pic>
          <p:nvPicPr>
            <p:cNvPr id="232" name="Right Arrow 17" descr=""/>
            <p:cNvPicPr/>
            <p:nvPr/>
          </p:nvPicPr>
          <p:blipFill>
            <a:blip r:embed="rId5"/>
            <a:stretch/>
          </p:blipFill>
          <p:spPr>
            <a:xfrm>
              <a:off x="1457280" y="49197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3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063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457200" y="2209680"/>
            <a:ext cx="7772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1828800"/>
          <a:ext cx="8305920" cy="48466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-2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3-4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5-6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egin Week 1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observing and team-tea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-op teacher for feedback and edit it for u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2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one lesson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llege supervisor for feedbac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3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two lessons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co-generated un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4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your second formal unit pl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5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half-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your second formal unit plan to your co-op teacher and college supervisor for feedba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6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Midterm assess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further units in preparation for full-time teach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380880" y="1752480"/>
          <a:ext cx="8458200" cy="49723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7-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9-1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2-14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7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full-time (three to five weeks or longer if you arrange i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second formal unit after edits (if necessar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8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additional units to your co-op teacher for feedback (they do not need to be okayed by your college superviso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9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ange to visit other classrooms/schools for professional development opportunities (scheduled for the final two weeks of the internship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2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creasing teaching to half-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o visit other classrooms/schools and professional development opportun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final assessment with your co-op teacher and send it to your college supervisor for feedback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059280" y="1905120"/>
          <a:ext cx="2819160" cy="495288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5-16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5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to visit, observe and possibly teach in areas that are outside your teaching areas. Visit with the school counselo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6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joy your time in the school. Ask for reference letters from co-op, principal, other teachers you may have worked with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September 21, 9:00am -  3:00 p.m. – 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Arial"/>
              </a:rPr>
              <a:t> October 19, 9:00 a.m. – 3:00 p.m. –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3 (half day):  the TC and Co-op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 early and leave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absences to the college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communication with cooperating teacher and college supervis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pre- and post- conferences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planning and co-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01:02Z</dcterms:created>
  <dc:creator>user</dc:creator>
  <dc:description/>
  <dc:language>en-US</dc:language>
  <cp:lastModifiedBy>ETG 1 Education</cp:lastModifiedBy>
  <dcterms:modified xsi:type="dcterms:W3CDTF">2012-08-22T18:01:15Z</dcterms:modified>
  <cp:revision>81</cp:revision>
  <dc:subject/>
  <dc:title>Internship Orientation Seminar</dc:title>
</cp:coreProperties>
</file>