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D05B-BEF6-4E61-A795-353A0E8E2C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D9A6-419D-4A1C-B590-013CFA2C8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ED50-39D5-42DE-ACFF-FB2F93333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C14C-D792-40D3-950B-E4207E41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4F19-6954-4455-855B-B797974E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EAE8-E021-4381-8C65-D1295F6F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1B40-D22A-4DC1-9377-B7C3D2EA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9A5B-9973-4C8B-8818-A9940754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892B-57CD-4B31-B524-D84A4FF4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AF94-6668-44F3-B707-AF00E03E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8D8F-73F5-40A4-B540-D391E8B2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71BF-C366-426B-BF7F-F3D2D66B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5964-FD1C-412D-BA77-A47B7B91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EBA1-9FAF-4117-B281-E4343A22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7F73-6F83-42B0-8B4E-7FE1F104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017F-38F6-48BA-B51F-57B52A8F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6549-26B3-4795-AB95-BFFCFB7B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E843-1070-4FF2-ADB2-9C97EA23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DC49-A594-4539-BB93-2B981E4E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36EB-95BA-4568-8EDB-6BC03D33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0D63A-722E-462D-8099-588DA22E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4EC0B-E2D4-4F50-9713-877BE911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975C3-F23F-4655-9B48-A4DCB05C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A87C4-E517-415B-BFF2-1EE7AF24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320AF-65A1-4557-A507-A333CA3C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AA11-0F48-4F31-A061-6C825708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0D548-7312-4C84-A069-BBD683C6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781BA-203B-42F8-921F-73B210AD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61F1E-4AAB-41A3-84E2-8D81C97B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1AC6D-013A-41E7-95CE-E6AFC4B0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3BB74-900B-47FC-8CBE-57845FAA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86884-51C6-4C47-B2EE-27158896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2FAF9-DE86-4061-B9D9-1DD83968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52408-5CA4-4B16-8BF7-F6135725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0F9DB-987A-497B-9E3E-9BD187DF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27594-1C05-490B-A652-C4966781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7FBC-D909-4C92-B3DC-30A761E9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69BE6-4709-49CD-B5E2-1616ABBC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DC350-9A28-463D-B1FA-5B6AAC6E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623E7-690D-4BF9-B42E-F0AD9A94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43105-B3AC-49CB-9C99-88566B02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CA2AA-7118-41EE-B6A9-B20388D9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913AB-AEE3-4D7A-96C4-C94A76E5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AC2C3-6E9D-43DC-8D8D-961427C2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71C81-DDC7-418D-8466-497BCB6B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C960C-A50A-41DB-A4AD-DAA1D882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75DC-C109-4B46-856B-D7555071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E5C5-8B05-4B10-9899-E9F41A71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2555-2436-47D2-AB71-6D7071B2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E3A3-A751-41A7-9DFD-0C0C3629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9B3F-362B-4769-9E15-06B690AA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D6AD-CF65-4E3A-ADC7-30A78D1EE561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A846-1593-4623-96E9-5DD18FF7BA0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A38E-7F43-409E-B6E6-A831B9B11D1E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DB38-7A04-47AA-A803-2C13F87B164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D698-53EC-4771-8E6D-D1F729F9161A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DCEC-0CCA-4240-A1B7-9B5C4C8B125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Freeform 16"/>
          <p:cNvGrpSpPr/>
          <p:nvPr/>
        </p:nvGrpSpPr>
        <p:grpSpPr>
          <a:xfrm>
            <a:off x="4376880" y="6248160"/>
            <a:ext cx="4767120" cy="609480"/>
            <a:chOff x="4376880" y="6248160"/>
            <a:chExt cx="4767120" cy="609480"/>
          </a:xfrm>
        </p:grpSpPr>
        <p:pic>
          <p:nvPicPr>
            <p:cNvPr id="154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75880"/>
              <a:ext cx="476712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 rot="10800000">
              <a:off x="4381200" y="6248160"/>
              <a:ext cx="4762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174B-A7F7-4C0A-854C-5CDFFDFDBEF1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093F-BEDA-42D2-A317-0A483DA1ACC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81160" y="781200"/>
            <a:ext cx="8472240" cy="16081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85520" y="407196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r. Jay Wils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gust 24, 201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XPECTATIONS FOR THE INTER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1714320"/>
            <a:ext cx="8315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Lesson Plans (2 formal plans each da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Unit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 – 5 lessons for part-time teach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-planned with Co-o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0 – 15 lesson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full time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XPECTATIONS FOR THE INTER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1714320"/>
            <a:ext cx="8315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documentation in the PGP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usion of Aboriginal Content, Knowledge and Ways of Knowi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involvement in School and Communit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per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y role is to support both you and your co-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 the relationship and determine if you need my hel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rner focused super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aching, consulting, collaborating, calibra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y ro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e you in your classro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you with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lp you document and reflect on your exper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you with support when you need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l visits in October and Nove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 and  post confer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l visits /extra curr if I can swing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arner focused super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ill watch the students not yo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a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ke no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can use an evaluation sh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ill share with you what I have obser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can connect my observations to the P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need f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h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on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ily plan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ail up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important source of evidence of what you are doing. Crucial for midterm and final evalu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 not have to meet them 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finished if you have them 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checkbox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antly revising, doing multiple e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me you will do regularly others, only o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s your grow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all evidence comes from the classroom or school se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ular journal dated with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one PGP goal per les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PGP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4000" y="2133360"/>
            <a:ext cx="8534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really happened in your intern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ite your cooperating teacher(s) so we can ALL read and add to your PGP goals evidence and reflections period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new P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File, Wikispaces, Google.do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p w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skinterns.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el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skatoon publ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wart Resource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nations information and ideas from other teachers, O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gend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/ Introdu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ship Over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ations, roles and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ion/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- Cohort wiki: </a:t>
            </a:r>
            <a:r>
              <a:rPr b="0" lang="en-US" sz="1800" spc="-1" strike="noStrike">
                <a:solidFill>
                  <a:srgbClr val="03495c"/>
                </a:solidFill>
                <a:latin typeface="Arial"/>
              </a:rPr>
              <a:t>http://saskinterns.wikispaces.com/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n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 (Responsible Learners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and Lesson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4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 up / Ho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un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will make you successfu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fessional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pa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 to classroom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oughtful and creative daily lesson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everything you will need to te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ment and evalu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s/passwor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ationy stuf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r co-op may not need to or is not interested in detailed prepa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have not earned that 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ng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 you handle your classroo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 you engage your studen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s of re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ned and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ing this skill will take ti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fessionalis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s of privacy and confidentiality are import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 than small towns but everyone still knows everyone el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ly become a member of the staff.  Ask questions and get to know what is happening in the sch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are not a student any m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k d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ACHER PROFESSIONALIS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5714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F Code of Professional Competencies &amp; Et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n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for guys. Power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you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you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you approach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you do is being interpreted by a very impressionab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ssues of professional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to deal with problem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 the procedure for multiple abs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acting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ing with EA or 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k for potential dang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ver be alone with the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is named in the su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iving is a no no, field trip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ersonaliz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to know your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not teach them or plan without knowing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the first ten days or so to get an idea about who you are working with then plan your first un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-12960"/>
            <a:ext cx="811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sson and Unit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07920" y="1052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on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eld services site Extensive planning templ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 Plan template (Wi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Plan template (Wi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-generated unit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4"/>
          <p:cNvGrpSpPr/>
          <p:nvPr/>
        </p:nvGrpSpPr>
        <p:grpSpPr>
          <a:xfrm>
            <a:off x="1643040" y="4071960"/>
            <a:ext cx="4071960" cy="2571840"/>
            <a:chOff x="1643040" y="4071960"/>
            <a:chExt cx="4071960" cy="2571840"/>
          </a:xfrm>
        </p:grpSpPr>
        <p:sp>
          <p:nvSpPr>
            <p:cNvPr id="285" name="Oval 6"/>
            <p:cNvSpPr/>
            <p:nvPr/>
          </p:nvSpPr>
          <p:spPr>
            <a:xfrm>
              <a:off x="1643040" y="4071960"/>
              <a:ext cx="4071960" cy="2571840"/>
            </a:xfrm>
            <a:prstGeom prst="ellipse">
              <a:avLst/>
            </a:prstGeom>
            <a:solidFill>
              <a:srgbClr val="c9fafc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11"/>
            <p:cNvSpPr/>
            <p:nvPr/>
          </p:nvSpPr>
          <p:spPr>
            <a:xfrm>
              <a:off x="4572000" y="51436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Tea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15"/>
          <p:cNvGrpSpPr/>
          <p:nvPr/>
        </p:nvGrpSpPr>
        <p:grpSpPr>
          <a:xfrm>
            <a:off x="1619280" y="4437000"/>
            <a:ext cx="2928960" cy="1928880"/>
            <a:chOff x="1619280" y="4437000"/>
            <a:chExt cx="2928960" cy="1928880"/>
          </a:xfrm>
        </p:grpSpPr>
        <p:sp>
          <p:nvSpPr>
            <p:cNvPr id="288" name="Oval 16"/>
            <p:cNvSpPr/>
            <p:nvPr/>
          </p:nvSpPr>
          <p:spPr>
            <a:xfrm>
              <a:off x="1619280" y="4437000"/>
              <a:ext cx="2928960" cy="1928880"/>
            </a:xfrm>
            <a:prstGeom prst="ellipse">
              <a:avLst/>
            </a:prstGeom>
            <a:solidFill>
              <a:srgbClr val="b5edfd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17"/>
            <p:cNvSpPr/>
            <p:nvPr/>
          </p:nvSpPr>
          <p:spPr>
            <a:xfrm>
              <a:off x="3405240" y="51512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Pla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8"/>
          <p:cNvGrpSpPr/>
          <p:nvPr/>
        </p:nvGrpSpPr>
        <p:grpSpPr>
          <a:xfrm>
            <a:off x="1643040" y="4643280"/>
            <a:ext cx="1785960" cy="1285920"/>
            <a:chOff x="1643040" y="4643280"/>
            <a:chExt cx="1785960" cy="1285920"/>
          </a:xfrm>
        </p:grpSpPr>
        <p:sp>
          <p:nvSpPr>
            <p:cNvPr id="291" name="Oval 19"/>
            <p:cNvSpPr/>
            <p:nvPr/>
          </p:nvSpPr>
          <p:spPr>
            <a:xfrm>
              <a:off x="1643040" y="4643280"/>
              <a:ext cx="1785960" cy="128592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20"/>
            <p:cNvSpPr/>
            <p:nvPr/>
          </p:nvSpPr>
          <p:spPr>
            <a:xfrm>
              <a:off x="1857240" y="50720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Ince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sson and Unit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important part of teach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it you want your learners to know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arch shows that it is what you will struggle with the mo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 planning/Specific plann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ekend upd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elco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o am 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ease introduce yourself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group will be your most important resource and suppor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arking on the most difficult task in which you have ever engag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ig 4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</a:rPr>
              <a:t>”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of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content, instruction,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individua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ment </a:t>
            </a: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of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, assessment </a:t>
            </a: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quiry-based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rn with your students, flexibility, takes the pressure off of you, FNMI, and offshoot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aching skills checkli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makes a teacher good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e the teaching going on around yo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checklist on w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f things are not working o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have until November 15 to withdra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ships sometimes do not work the first ti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a problem to redo your internsh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ten works out better than the situation you are in curr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ink about i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ship will be the most difficult task you have ever underta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will all have weaknes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you respond to them is what is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 to you to be the best for every student you come into contact wi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ttom line is how is student learning is impacted by what you 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ong job interview. You have four months to impress your coop and your princip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rap up and home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s, issues or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work: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g Ideas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1357200" y="3000240"/>
            <a:ext cx="5072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hnography of school/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ig Ideas</a:t>
            </a:r>
            <a:r>
              <a:rPr b="0" lang="ja-JP" sz="18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in edu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Adaptive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Differentiated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Content areas and teaching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Resources and resource-based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First Nations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Cultural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Teacher and student suppor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Communicating and reporting to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Record kee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Division or school major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071440" y="22824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rst In-servi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0880" y="1905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ning of your first unit (3 – 5 less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pt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f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GP Goal Tabl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 of evidence/indic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s should be prepared to teach their cooperating teacher about the PGP goals and sub-goals and how to use the goal t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rap u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eedback c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useful part of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question you still h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itter @j_wil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 717-236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fice 966-761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 242-013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y.wilson@usask.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ime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1" name="Right Arrow 3"/>
          <p:cNvGrpSpPr/>
          <p:nvPr/>
        </p:nvGrpSpPr>
        <p:grpSpPr>
          <a:xfrm>
            <a:off x="3975120" y="4687920"/>
            <a:ext cx="1120680" cy="603360"/>
            <a:chOff x="3975120" y="4687920"/>
            <a:chExt cx="1120680" cy="603360"/>
          </a:xfrm>
        </p:grpSpPr>
        <p:pic>
          <p:nvPicPr>
            <p:cNvPr id="212" name="Right Arrow 3" descr=""/>
            <p:cNvPicPr/>
            <p:nvPr/>
          </p:nvPicPr>
          <p:blipFill>
            <a:blip r:embed="rId1"/>
            <a:stretch/>
          </p:blipFill>
          <p:spPr>
            <a:xfrm>
              <a:off x="3975120" y="4687920"/>
              <a:ext cx="11206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 rot="10800000">
              <a:off x="4152960" y="48384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4"/>
          <p:cNvSpPr/>
          <p:nvPr/>
        </p:nvSpPr>
        <p:spPr>
          <a:xfrm>
            <a:off x="304920" y="2209680"/>
            <a:ext cx="2133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 – August 2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to know your school and the procedures for inter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3733920" y="2133720"/>
            <a:ext cx="236196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ervice #1 Sept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first unit with Co-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PGG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5791320" y="27432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ing ½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term evaluation due Octob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7010280" y="2133720"/>
            <a:ext cx="22860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ervice #2 Oct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midterm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-Tuning Unit 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Right Arrow 10"/>
          <p:cNvGrpSpPr/>
          <p:nvPr/>
        </p:nvGrpSpPr>
        <p:grpSpPr>
          <a:xfrm>
            <a:off x="5956200" y="2097000"/>
            <a:ext cx="1121040" cy="603360"/>
            <a:chOff x="5956200" y="2097000"/>
            <a:chExt cx="1121040" cy="603360"/>
          </a:xfrm>
        </p:grpSpPr>
        <p:pic>
          <p:nvPicPr>
            <p:cNvPr id="219" name="Right Arrow 10" descr=""/>
            <p:cNvPicPr/>
            <p:nvPr/>
          </p:nvPicPr>
          <p:blipFill>
            <a:blip r:embed="rId2"/>
            <a:stretch/>
          </p:blipFill>
          <p:spPr>
            <a:xfrm>
              <a:off x="5956200" y="2097000"/>
              <a:ext cx="112104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019920" y="224784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Right Arrow 11"/>
          <p:cNvGrpSpPr/>
          <p:nvPr/>
        </p:nvGrpSpPr>
        <p:grpSpPr>
          <a:xfrm>
            <a:off x="2603520" y="2097000"/>
            <a:ext cx="1120680" cy="603360"/>
            <a:chOff x="2603520" y="2097000"/>
            <a:chExt cx="1120680" cy="603360"/>
          </a:xfrm>
        </p:grpSpPr>
        <p:pic>
          <p:nvPicPr>
            <p:cNvPr id="222" name="Right Arrow 11" descr=""/>
            <p:cNvPicPr/>
            <p:nvPr/>
          </p:nvPicPr>
          <p:blipFill>
            <a:blip r:embed="rId3"/>
            <a:stretch/>
          </p:blipFill>
          <p:spPr>
            <a:xfrm>
              <a:off x="2603520" y="2097000"/>
              <a:ext cx="11206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666880" y="2247840"/>
              <a:ext cx="876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Right Arrow 12"/>
          <p:cNvGrpSpPr/>
          <p:nvPr/>
        </p:nvGrpSpPr>
        <p:grpSpPr>
          <a:xfrm>
            <a:off x="7400880" y="4005360"/>
            <a:ext cx="1120680" cy="603000"/>
            <a:chOff x="7400880" y="4005360"/>
            <a:chExt cx="1120680" cy="603000"/>
          </a:xfrm>
        </p:grpSpPr>
        <p:pic>
          <p:nvPicPr>
            <p:cNvPr id="225" name="Right Arrow 12" descr=""/>
            <p:cNvPicPr/>
            <p:nvPr/>
          </p:nvPicPr>
          <p:blipFill>
            <a:blip r:embed="rId4"/>
            <a:stretch/>
          </p:blipFill>
          <p:spPr>
            <a:xfrm>
              <a:off x="7400880" y="4005360"/>
              <a:ext cx="112068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 rot="10800000">
              <a:off x="7581960" y="41526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3"/>
          <p:cNvSpPr/>
          <p:nvPr/>
        </p:nvSpPr>
        <p:spPr>
          <a:xfrm>
            <a:off x="2362320" y="266688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4"/>
          <p:cNvSpPr/>
          <p:nvPr/>
        </p:nvSpPr>
        <p:spPr>
          <a:xfrm>
            <a:off x="5715000" y="4495680"/>
            <a:ext cx="137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 your Full time te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2666880" y="464832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ft of final evaluation to me by December 7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6"/>
          <p:cNvSpPr/>
          <p:nvPr/>
        </p:nvSpPr>
        <p:spPr>
          <a:xfrm>
            <a:off x="228600" y="53341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ember 21 School is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Right Arrow 17"/>
          <p:cNvGrpSpPr/>
          <p:nvPr/>
        </p:nvGrpSpPr>
        <p:grpSpPr>
          <a:xfrm>
            <a:off x="1457280" y="4919760"/>
            <a:ext cx="1120680" cy="603000"/>
            <a:chOff x="1457280" y="4919760"/>
            <a:chExt cx="1120680" cy="603000"/>
          </a:xfrm>
        </p:grpSpPr>
        <p:pic>
          <p:nvPicPr>
            <p:cNvPr id="232" name="Right Arrow 17" descr=""/>
            <p:cNvPicPr/>
            <p:nvPr/>
          </p:nvPicPr>
          <p:blipFill>
            <a:blip r:embed="rId5"/>
            <a:stretch/>
          </p:blipFill>
          <p:spPr>
            <a:xfrm>
              <a:off x="1457280" y="4919760"/>
              <a:ext cx="112068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 rot="10800000">
              <a:off x="1638360" y="50670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8"/>
          <p:cNvSpPr/>
          <p:nvPr/>
        </p:nvSpPr>
        <p:spPr>
          <a:xfrm>
            <a:off x="1447920" y="56386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ing down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3" descr=""/>
          <p:cNvPicPr/>
          <p:nvPr/>
        </p:nvPicPr>
        <p:blipFill>
          <a:blip r:embed="rId1"/>
          <a:stretch/>
        </p:blipFill>
        <p:spPr>
          <a:xfrm>
            <a:off x="426960" y="701640"/>
            <a:ext cx="8339040" cy="1206360"/>
          </a:xfrm>
          <a:prstGeom prst="rect">
            <a:avLst/>
          </a:prstGeom>
          <a:ln w="0">
            <a:noFill/>
          </a:ln>
        </p:spPr>
      </p:pic>
      <p:sp>
        <p:nvSpPr>
          <p:cNvPr id="236" name="TextBox 4"/>
          <p:cNvSpPr/>
          <p:nvPr/>
        </p:nvSpPr>
        <p:spPr>
          <a:xfrm>
            <a:off x="457200" y="2209680"/>
            <a:ext cx="7772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28600" y="1828800"/>
          <a:ext cx="8305920" cy="484668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1-2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3-4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5-6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egin Week 1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 observing and team-teach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 co-generated unit to your co-op teacher for feedback and edit it for u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2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 one lesson a da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 co-generated unit to your college supervisor for feedback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3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 two lessons a da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teaching your co-generated un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4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developing your second formal unit plan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5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 half-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e sure your PGG is up to d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 your second formal unit plan to your co-op teacher and college supervisor for feedbac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6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 the Midterm assess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developing further units in preparation for full-time teaching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426960" y="701640"/>
            <a:ext cx="8339040" cy="12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380880" y="1752480"/>
          <a:ext cx="8458200" cy="497232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7-8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9-11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12-14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4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7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teaching full-time (three to five weeks or longer if you arrange it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teaching your second formal unit after edits (if necessary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8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 additional units to your co-op teacher for feedback (they do not need to be okayed by your college supervisor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9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e sure your PGG is up to da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1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ange to visit other classrooms/schools for professional development opportunities (scheduled for the final two weeks of the internship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2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decreasing teaching to half-tim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3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to visit other classrooms/schools and professional development opportuniti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4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 the final assessment with your co-op teacher and send it to your college supervisor for feedback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426960" y="701640"/>
            <a:ext cx="8339040" cy="12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3059280" y="1905120"/>
          <a:ext cx="2819160" cy="495288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15-16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5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ue to visit, observe and possibly teach in areas that are outside your teaching areas. Visit with the school counselo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6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joy your time in the school. Ask for reference letters from co-op, principal, other teachers you may have worked with.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14320" y="2282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IN-SERVICE DATES &amp; LOCA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-service # 1 for teacher candidates and cooperating teachers: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September 21, 9:00am -  3:00 p.m. – Room 2010 College of 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-service # 2 for teacher candidates only:</a:t>
            </a:r>
            <a:r>
              <a:rPr b="1" lang="en-US" sz="2600" spc="-1" strike="noStrike">
                <a:solidFill>
                  <a:srgbClr val="083763"/>
                </a:solidFill>
                <a:latin typeface="Arial"/>
              </a:rPr>
              <a:t> October 19, 9:00 a.m. – 3:00 p.m. –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oom 2010 College of 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-service # 3 (half day):  the TC and Co-op decide when to take the half day to work on the midterm assessment.  This half day can be spent in the home scho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XPECTATIONS FOR THE INTER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800" y="1714320"/>
            <a:ext cx="8315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ive early and leave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absences to the college super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communication with cooperating teacher and college supervis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ily pre- and post- conferences and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planning and co-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5:01:02Z</dcterms:created>
  <dc:creator>user</dc:creator>
  <dc:description/>
  <dc:language>en-US</dc:language>
  <cp:lastModifiedBy>ETG 1 Education</cp:lastModifiedBy>
  <dcterms:modified xsi:type="dcterms:W3CDTF">2012-08-22T18:01:15Z</dcterms:modified>
  <cp:revision>81</cp:revision>
  <dc:subject/>
  <dc:title>Internship Orientation Seminar</dc:title>
</cp:coreProperties>
</file>