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F9C7-B154-4F3D-BE64-ED01BB8F0D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3154-979E-4829-8A22-E83AB2DA4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7BA4-7564-47E3-8922-4285EE708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73F9-0F35-4D20-A39F-C6D9488FF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9C3F-EA19-4753-9679-DF9B8BCB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947E-AC26-479F-AEE7-3D80D3DB6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F6AF-A758-47D0-9B11-03280E6C6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60D4-DD76-4C9D-8C40-69AC09934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CA9F-AACD-44AB-A09E-F664FC7E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BE00-9EA8-4CD5-B587-F82F5455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3A6C-C2A7-4B3A-B45D-26540DAA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F720-EEE1-4CD1-9D4F-608FB293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98E8-7165-4D51-99A2-171284FB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B57F6-6767-4992-B1D3-1A71B6E4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741E-2176-43DB-AFC1-C5A88700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A1E9-4A81-4A42-B87D-3D75C2E5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ACE6-8109-4BC1-A9B1-A5A8AA12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624A-715B-4F84-8DB2-D9F390ED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A25F-EB67-421B-B82D-999856C75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4987-2C5A-4A5A-9E14-EC920E25E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AFCC0-BEDE-4E1A-80C0-FD365B89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1669D-F0DF-4A3C-964C-6C703F8F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9FDC7-1D55-4F51-B99E-E01EC4A0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EEE96-664D-4E7C-8459-BAD893DF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24D2E-4450-4882-A2F8-4043747E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B6D4-B5F3-400F-8FD5-DE1F2690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B0B0E-A0CD-4EAD-8BF1-5640D277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86A28-459D-455C-99F5-194BE38A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970D4-A024-47CA-86BD-24269618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F7E5E-6F90-4024-BE68-74CC7220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42CAA-60B8-4AAF-8619-BE17D075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207E3-B9BB-442B-AA3F-4DBAA7F84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0047D-F909-430E-A874-1DB93D255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1D33A-7E87-43F4-8092-2216DC2C1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CB5D2-65EC-4F0D-B091-B9D4692E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21935-4EC4-4FD3-A349-99830C5B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CC68-16D8-43B9-8CA4-92D58024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6F4BC-DDF2-4777-ABD4-0331A8CC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A3A05-B904-48E5-9494-3E395AD3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5ECA8-F4DE-40D3-98CD-DB0C6CCD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256DC-693B-467F-B9FA-E3151BB7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5B2A0-44A2-4F04-B89E-E8FC58CA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8354B-D91E-4506-B1ED-3F64272F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8D8F2-321F-4C6C-822B-56495D6F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1E5FE-D1DF-4659-943F-84A1F346B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4CE7A-4B17-4716-9C4B-09DEBD8F0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24ED-376A-4E0F-BF8F-ADB7A353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DDF4-C76B-43B1-82F3-8BC1FBDD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B510-A6C7-4329-BBEA-F8CD0A7B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B54E-D279-4BE7-BEC8-FD8C650D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19BE-936B-48DB-93C0-FA899A6A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7458-D6BB-41B1-A860-00C7B29A47F3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11F8-816E-4C8F-A463-C100B4F6C08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79D4-240C-4F97-A2A5-7FADD43B2EB9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70C6-D2B3-4186-AD62-DC4135C9BDA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6BC2-1693-497E-9E33-5F98C5056F66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B870-BFB0-4598-93BC-969EEA48163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Freeform 16"/>
          <p:cNvGrpSpPr/>
          <p:nvPr/>
        </p:nvGrpSpPr>
        <p:grpSpPr>
          <a:xfrm>
            <a:off x="4376880" y="6248160"/>
            <a:ext cx="4767120" cy="609480"/>
            <a:chOff x="4376880" y="6248160"/>
            <a:chExt cx="4767120" cy="609480"/>
          </a:xfrm>
        </p:grpSpPr>
        <p:pic>
          <p:nvPicPr>
            <p:cNvPr id="154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75880"/>
              <a:ext cx="4767120" cy="5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 rot="10800000">
              <a:off x="4381200" y="6248160"/>
              <a:ext cx="47624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8325-DDD7-42A6-A7AB-C074CAF02F08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EDDE-8016-451E-A834-3AAC7C7F69B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281160" y="781200"/>
            <a:ext cx="8472240" cy="16081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85520" y="407196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r. Jay Wils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ugust 24, 201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EXPECTATIONS FOR THE INTER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1714320"/>
            <a:ext cx="83152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Lesson Plans (2 formal plans each da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Unit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 – 5 lessons for part-time teach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-planned with Co-o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0 – 15 lesson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full time tea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EXPECTATIONS FOR THE INTER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1714320"/>
            <a:ext cx="83152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documentation in the PGP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usion of Aboriginal Content, Knowledge and Ways of Knowing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involvement in School and Community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upervi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y role is to support both you and your co-o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ess the relationship and determine if you need my hel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rner focused super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aching, consulting, collaborating, calibra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y ro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serve you in your classro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 you with feed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lp you document and reflect on your experi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 you with support when you need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al visits in October and Novemb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 and  post confer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rmal visits /extra curr if I can swing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arner focused supervis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will watch the students not yo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a 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ke no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can use an evaluation she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will share with you what I have obser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can connect my observations to the PG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achie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need for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he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son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ily plann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ail upd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G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G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 important source of evidence of what you are doing. Crucial for midterm and final evalu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 not have to meet them 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finished if you have them 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checkbox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tantly revising, doing multiple ent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G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me you will do regularly others, only o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ws your grow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all evidence comes from the classroom or school se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gular journal dated with feed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ly one PGP goal per les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Calibri"/>
              </a:rPr>
              <a:t>PGP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24000" y="2133360"/>
            <a:ext cx="8534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really happened in your internsh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vite your cooperating teacher(s) so we can ALL read and add to your PGP goals evidence and reflections periodi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 new PG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 File, Wikispaces, Google.do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sour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oup wik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skinterns.wikispace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eld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skatoon publ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ewart Resource 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rst nations information and ideas from other teachers, O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gend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760" y="1499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 / Introdu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ship Overvie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ations, roles and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vision/ 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G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 - Cohort wiki: </a:t>
            </a:r>
            <a:r>
              <a:rPr b="0" lang="en-US" sz="1800" spc="-1" strike="noStrike">
                <a:solidFill>
                  <a:srgbClr val="03495c"/>
                </a:solidFill>
                <a:latin typeface="Arial"/>
              </a:rPr>
              <a:t>http://saskinterns.wikispaces.com/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n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ment (Responsible Learners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iona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3600" indent="-208800">
              <a:lnSpc>
                <a:spcPct val="6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iz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and Lesson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4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 up / Ho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6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unc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will make you successfu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fessional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epar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y to classroom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oughtful and creative daily lesson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 everything you will need to te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essment and evalu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eria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ys/password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13800" indent="-235800"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ministrationy stuff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r co-op may not need to or is not interested in detailed prepa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have not earned that r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ngem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do you handle your classroo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do you engage your student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ues of re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ned and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loping this skill will take ti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fessionalism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44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ues of privacy and confidentiality are import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ferent than small towns but everyone still knows everyone el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ngu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uly become a member of the staff.  Ask questions and get to know what is happening in the scho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are not a student any mo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ck da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TEACHER PROFESSIONALISM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5714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F Code of Professional Competencies &amp; Et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n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 for guys. Power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you 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you 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you approach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you do is being interpreted by a very impressionabl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ssues of professionalis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to deal with problem stud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now the procedure for multiple abs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acting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king with EA or 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ok for potential dang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ver be alone with the stud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 is named in the su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iving is a no no, field trip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ersonaliz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 to know your stud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not teach them or plan without knowing th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the first ten days or so to get an idea about who you are working with then plan your first un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-12960"/>
            <a:ext cx="811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sson and Unit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907920" y="1052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son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eld services site Extensive planning templ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on Plan template (Wik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t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Plan template (Wik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-generated unit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14"/>
          <p:cNvGrpSpPr/>
          <p:nvPr/>
        </p:nvGrpSpPr>
        <p:grpSpPr>
          <a:xfrm>
            <a:off x="1643040" y="4071960"/>
            <a:ext cx="4071960" cy="2571840"/>
            <a:chOff x="1643040" y="4071960"/>
            <a:chExt cx="4071960" cy="2571840"/>
          </a:xfrm>
        </p:grpSpPr>
        <p:sp>
          <p:nvSpPr>
            <p:cNvPr id="285" name="Oval 6"/>
            <p:cNvSpPr/>
            <p:nvPr/>
          </p:nvSpPr>
          <p:spPr>
            <a:xfrm>
              <a:off x="1643040" y="4071960"/>
              <a:ext cx="4071960" cy="2571840"/>
            </a:xfrm>
            <a:prstGeom prst="ellipse">
              <a:avLst/>
            </a:prstGeom>
            <a:solidFill>
              <a:srgbClr val="c9fafc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Box 11"/>
            <p:cNvSpPr/>
            <p:nvPr/>
          </p:nvSpPr>
          <p:spPr>
            <a:xfrm>
              <a:off x="4572000" y="514368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onstantia"/>
                </a:rPr>
                <a:t>Teach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15"/>
          <p:cNvGrpSpPr/>
          <p:nvPr/>
        </p:nvGrpSpPr>
        <p:grpSpPr>
          <a:xfrm>
            <a:off x="1619280" y="4437000"/>
            <a:ext cx="2928960" cy="1928880"/>
            <a:chOff x="1619280" y="4437000"/>
            <a:chExt cx="2928960" cy="1928880"/>
          </a:xfrm>
        </p:grpSpPr>
        <p:sp>
          <p:nvSpPr>
            <p:cNvPr id="288" name="Oval 16"/>
            <p:cNvSpPr/>
            <p:nvPr/>
          </p:nvSpPr>
          <p:spPr>
            <a:xfrm>
              <a:off x="1619280" y="4437000"/>
              <a:ext cx="2928960" cy="1928880"/>
            </a:xfrm>
            <a:prstGeom prst="ellipse">
              <a:avLst/>
            </a:prstGeom>
            <a:solidFill>
              <a:srgbClr val="b5edfd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17"/>
            <p:cNvSpPr/>
            <p:nvPr/>
          </p:nvSpPr>
          <p:spPr>
            <a:xfrm>
              <a:off x="3405240" y="515124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onstantia"/>
                </a:rPr>
                <a:t>Plan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18"/>
          <p:cNvGrpSpPr/>
          <p:nvPr/>
        </p:nvGrpSpPr>
        <p:grpSpPr>
          <a:xfrm>
            <a:off x="1643040" y="4643280"/>
            <a:ext cx="1785960" cy="1285920"/>
            <a:chOff x="1643040" y="4643280"/>
            <a:chExt cx="1785960" cy="1285920"/>
          </a:xfrm>
        </p:grpSpPr>
        <p:sp>
          <p:nvSpPr>
            <p:cNvPr id="291" name="Oval 19"/>
            <p:cNvSpPr/>
            <p:nvPr/>
          </p:nvSpPr>
          <p:spPr>
            <a:xfrm>
              <a:off x="1643040" y="4643280"/>
              <a:ext cx="1785960" cy="128592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20"/>
            <p:cNvSpPr/>
            <p:nvPr/>
          </p:nvSpPr>
          <p:spPr>
            <a:xfrm>
              <a:off x="1857240" y="507204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onstantia"/>
                </a:rPr>
                <a:t>Incep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sson and Unit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important part of teach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it you want your learners to know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earch shows that it is what you will struggle with the mo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al planning/Specific plann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ekend upda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elco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o am 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ease introduce yourself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group will be your most important resource and suppor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barking on the most difficult task in which you have ever engag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ig 4</a:t>
            </a:r>
            <a:r>
              <a:rPr b="0" lang="ja-JP" sz="5000" spc="-1" strike="noStrike">
                <a:solidFill>
                  <a:srgbClr val="04617b"/>
                </a:solidFill>
                <a:latin typeface="Calibri"/>
              </a:rPr>
              <a:t>”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of plann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p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d to content, instruction,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ferent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d to individual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ess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ment </a:t>
            </a:r>
            <a:r>
              <a:rPr b="0" i="1" lang="en-US" sz="2400" spc="-1" strike="noStrike">
                <a:solidFill>
                  <a:srgbClr val="00b050"/>
                </a:solidFill>
                <a:latin typeface="Arial"/>
              </a:rPr>
              <a:t>of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, assessment </a:t>
            </a:r>
            <a:r>
              <a:rPr b="0" i="1" lang="en-US" sz="2400" spc="-1" strike="noStrike">
                <a:solidFill>
                  <a:srgbClr val="00b05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quiry-based edu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rn with your students, flexibility, takes the pressure off of you, FNMI, and offshoot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eaching skills checkli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makes a teacher good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serve the teaching going on around yo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 checklist on wik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f things are not working ou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have until November 15 to withdraw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nships sometimes do not work the first ti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a problem to redo your internshi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ten works out better than the situation you are in current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ink about i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ship will be the most difficult task you have ever underta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will all have weakness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you respond to them is what is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 to you to be the best for every student you come into contact wi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ttom line is how is student learning is impacted by what you 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long job interview. You have four months to impress your coop and your princip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rap up and homewor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s, issues or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work: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g Ideas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 Edu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1357200" y="3000240"/>
            <a:ext cx="5072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thnography of school/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ja-JP" sz="1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ig Ideas</a:t>
            </a:r>
            <a:r>
              <a:rPr b="0" lang="ja-JP" sz="1800" spc="-1" strike="noStrike">
                <a:solidFill>
                  <a:srgbClr val="000000"/>
                </a:solidFill>
                <a:latin typeface="Constantia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in edu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Adaptive dim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Differentiated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Content areas and teaching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Resources and resource-based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First Nations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Cultural d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Teacher and student support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Communicating and reporting to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Record kee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ＭＳ Ｐゴシック"/>
              </a:rPr>
              <a:t>Division or school major initi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3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071440" y="22824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rst In-servic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0880" y="19051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ning of your first unit (3 – 5 lesson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 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pto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f po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GP Goal Table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s of evidence/indicat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ns should be prepared to teach their cooperating teacher about the PGP goals and sub-goals and how to use the goal tab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rap u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eedback ca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 useful part of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question you still h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witter @j_wil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 717-236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fice 966-761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 242-013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ay.wilson@usask.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imeli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11" name="Right Arrow 3"/>
          <p:cNvGrpSpPr/>
          <p:nvPr/>
        </p:nvGrpSpPr>
        <p:grpSpPr>
          <a:xfrm>
            <a:off x="3975120" y="4687920"/>
            <a:ext cx="1120680" cy="603360"/>
            <a:chOff x="3975120" y="4687920"/>
            <a:chExt cx="1120680" cy="603360"/>
          </a:xfrm>
        </p:grpSpPr>
        <p:pic>
          <p:nvPicPr>
            <p:cNvPr id="212" name="Right Arrow 3" descr=""/>
            <p:cNvPicPr/>
            <p:nvPr/>
          </p:nvPicPr>
          <p:blipFill>
            <a:blip r:embed="rId1"/>
            <a:stretch/>
          </p:blipFill>
          <p:spPr>
            <a:xfrm>
              <a:off x="3975120" y="4687920"/>
              <a:ext cx="112068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 rot="10800000">
              <a:off x="4152960" y="483840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Box 4"/>
          <p:cNvSpPr/>
          <p:nvPr/>
        </p:nvSpPr>
        <p:spPr>
          <a:xfrm>
            <a:off x="304920" y="2209680"/>
            <a:ext cx="2133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w – August 2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 to know your school and the procedures for intern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3733920" y="2133720"/>
            <a:ext cx="236196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-service #1 Sept 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first unit with Co-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PGG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6"/>
          <p:cNvSpPr/>
          <p:nvPr/>
        </p:nvSpPr>
        <p:spPr>
          <a:xfrm>
            <a:off x="5791320" y="274320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ing ½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term evaluation due October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7010280" y="2133720"/>
            <a:ext cx="22860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-service #2 Oct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midterm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-Tuning Unit 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Right Arrow 10"/>
          <p:cNvGrpSpPr/>
          <p:nvPr/>
        </p:nvGrpSpPr>
        <p:grpSpPr>
          <a:xfrm>
            <a:off x="5956200" y="2097000"/>
            <a:ext cx="1121040" cy="603360"/>
            <a:chOff x="5956200" y="2097000"/>
            <a:chExt cx="1121040" cy="603360"/>
          </a:xfrm>
        </p:grpSpPr>
        <p:pic>
          <p:nvPicPr>
            <p:cNvPr id="219" name="Right Arrow 10" descr=""/>
            <p:cNvPicPr/>
            <p:nvPr/>
          </p:nvPicPr>
          <p:blipFill>
            <a:blip r:embed="rId2"/>
            <a:stretch/>
          </p:blipFill>
          <p:spPr>
            <a:xfrm>
              <a:off x="5956200" y="2097000"/>
              <a:ext cx="112104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6019920" y="224784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Right Arrow 11"/>
          <p:cNvGrpSpPr/>
          <p:nvPr/>
        </p:nvGrpSpPr>
        <p:grpSpPr>
          <a:xfrm>
            <a:off x="2603520" y="2097000"/>
            <a:ext cx="1120680" cy="603360"/>
            <a:chOff x="2603520" y="2097000"/>
            <a:chExt cx="1120680" cy="603360"/>
          </a:xfrm>
        </p:grpSpPr>
        <p:pic>
          <p:nvPicPr>
            <p:cNvPr id="222" name="Right Arrow 11" descr=""/>
            <p:cNvPicPr/>
            <p:nvPr/>
          </p:nvPicPr>
          <p:blipFill>
            <a:blip r:embed="rId3"/>
            <a:stretch/>
          </p:blipFill>
          <p:spPr>
            <a:xfrm>
              <a:off x="2603520" y="2097000"/>
              <a:ext cx="112068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2666880" y="2247840"/>
              <a:ext cx="876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Right Arrow 12"/>
          <p:cNvGrpSpPr/>
          <p:nvPr/>
        </p:nvGrpSpPr>
        <p:grpSpPr>
          <a:xfrm>
            <a:off x="7400880" y="4005360"/>
            <a:ext cx="1120680" cy="603000"/>
            <a:chOff x="7400880" y="4005360"/>
            <a:chExt cx="1120680" cy="603000"/>
          </a:xfrm>
        </p:grpSpPr>
        <p:pic>
          <p:nvPicPr>
            <p:cNvPr id="225" name="Right Arrow 12" descr=""/>
            <p:cNvPicPr/>
            <p:nvPr/>
          </p:nvPicPr>
          <p:blipFill>
            <a:blip r:embed="rId4"/>
            <a:stretch/>
          </p:blipFill>
          <p:spPr>
            <a:xfrm>
              <a:off x="7400880" y="4005360"/>
              <a:ext cx="1120680" cy="6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 rot="10800000">
              <a:off x="7581960" y="415260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Box 13"/>
          <p:cNvSpPr/>
          <p:nvPr/>
        </p:nvSpPr>
        <p:spPr>
          <a:xfrm>
            <a:off x="2362320" y="266688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n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4"/>
          <p:cNvSpPr/>
          <p:nvPr/>
        </p:nvSpPr>
        <p:spPr>
          <a:xfrm>
            <a:off x="5715000" y="4495680"/>
            <a:ext cx="1371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ober 2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 your Full time tea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5"/>
          <p:cNvSpPr/>
          <p:nvPr/>
        </p:nvSpPr>
        <p:spPr>
          <a:xfrm>
            <a:off x="2666880" y="4648320"/>
            <a:ext cx="12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ft of final evaluation to me by December 7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6"/>
          <p:cNvSpPr/>
          <p:nvPr/>
        </p:nvSpPr>
        <p:spPr>
          <a:xfrm>
            <a:off x="228600" y="533412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ember 21 School is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Right Arrow 17"/>
          <p:cNvGrpSpPr/>
          <p:nvPr/>
        </p:nvGrpSpPr>
        <p:grpSpPr>
          <a:xfrm>
            <a:off x="1457280" y="4919760"/>
            <a:ext cx="1120680" cy="603000"/>
            <a:chOff x="1457280" y="4919760"/>
            <a:chExt cx="1120680" cy="603000"/>
          </a:xfrm>
        </p:grpSpPr>
        <p:pic>
          <p:nvPicPr>
            <p:cNvPr id="232" name="Right Arrow 17" descr=""/>
            <p:cNvPicPr/>
            <p:nvPr/>
          </p:nvPicPr>
          <p:blipFill>
            <a:blip r:embed="rId5"/>
            <a:stretch/>
          </p:blipFill>
          <p:spPr>
            <a:xfrm>
              <a:off x="1457280" y="4919760"/>
              <a:ext cx="1120680" cy="6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 rot="10800000">
              <a:off x="1638360" y="5067000"/>
              <a:ext cx="87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Box 18"/>
          <p:cNvSpPr/>
          <p:nvPr/>
        </p:nvSpPr>
        <p:spPr>
          <a:xfrm>
            <a:off x="1447920" y="563868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ing down tea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3" descr=""/>
          <p:cNvPicPr/>
          <p:nvPr/>
        </p:nvPicPr>
        <p:blipFill>
          <a:blip r:embed="rId1"/>
          <a:stretch/>
        </p:blipFill>
        <p:spPr>
          <a:xfrm>
            <a:off x="426960" y="701640"/>
            <a:ext cx="8339040" cy="1206360"/>
          </a:xfrm>
          <a:prstGeom prst="rect">
            <a:avLst/>
          </a:prstGeom>
          <a:ln w="0">
            <a:noFill/>
          </a:ln>
        </p:spPr>
      </p:pic>
      <p:sp>
        <p:nvSpPr>
          <p:cNvPr id="236" name="TextBox 4"/>
          <p:cNvSpPr/>
          <p:nvPr/>
        </p:nvSpPr>
        <p:spPr>
          <a:xfrm>
            <a:off x="457200" y="2209680"/>
            <a:ext cx="7772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28600" y="1828800"/>
          <a:ext cx="8305920" cy="484668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1-2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3-4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5-6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2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egin Week 1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y observing and team-teach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iver co-generated unit to your co-op teacher for feedback and edit it for us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2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 one lesson a da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iver co-generated unit to your college supervisor for feedback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3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 two lessons a da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teaching your co-generated uni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4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developing your second formal unit plan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5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ch half-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e sure your PGG is up to da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iver your second formal unit plan to your co-op teacher and college supervisor for feedbac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6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 the Midterm assess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developing further units in preparation for full-time teaching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1" descr=""/>
          <p:cNvPicPr/>
          <p:nvPr/>
        </p:nvPicPr>
        <p:blipFill>
          <a:blip r:embed="rId1"/>
          <a:stretch/>
        </p:blipFill>
        <p:spPr>
          <a:xfrm>
            <a:off x="426960" y="701640"/>
            <a:ext cx="8339040" cy="121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380880" y="1752480"/>
          <a:ext cx="8458200" cy="497232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12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7-8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9-11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12-14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4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7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teaching full-time (three to five weeks or longer if you arrange it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teaching your second formal unit after edits (if necessary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8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iver additional units to your co-op teacher for feedback (they do not need to be okayed by your college supervisor)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9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e sure your PGG is up to dat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11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range to visit other classrooms/schools for professional development opportunities (scheduled for the final two weeks of the internship)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12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decreasing teaching to half-tim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13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 to visit other classrooms/schools and professional development opportuniti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14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 the final assessment with your co-op teacher and send it to your college supervisor for feedback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426960" y="701640"/>
            <a:ext cx="8339040" cy="121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3059280" y="1905120"/>
          <a:ext cx="2819160" cy="4952880"/>
        </p:xfrm>
        <a:graphic>
          <a:graphicData uri="http://schemas.openxmlformats.org/drawingml/2006/table">
            <a:tbl>
              <a:tblPr/>
              <a:tblGrid>
                <a:gridCol w="2819160"/>
              </a:tblGrid>
              <a:tr h="12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eks 15-16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3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15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inue to visit, observe and possibly teach in areas that are outside your teaching areas. Visit with the school counselor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y Week 16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joy your time in the school. Ask for reference letters from co-op, principal, other teachers you may have worked with.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14320" y="22824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IN-SERVICE DATES &amp; LOCATION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-service # 1 for teacher candidates and cooperating teachers: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September 21, 9:00am -  3:00 p.m. – Room 2010 College of 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-service # 2 for teacher candidates only:</a:t>
            </a:r>
            <a:r>
              <a:rPr b="1" lang="en-US" sz="2600" spc="-1" strike="noStrike">
                <a:solidFill>
                  <a:srgbClr val="083763"/>
                </a:solidFill>
                <a:latin typeface="Arial"/>
              </a:rPr>
              <a:t> October 19, 9:00 a.m. – 3:00 p.m. –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oom 2010 College of 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-service # 3 (half day):  the TC and Co-op decide when to take the half day to work on the midterm assessment.  This half day can be spent in the home schoo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EXPECTATIONS FOR THE INTER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85800" y="1714320"/>
            <a:ext cx="83152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ive early and leave 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absences to the college supervi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communication with cooperating teacher and college superviso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ily pre- and post- conferences and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-planning and co-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7T15:01:02Z</dcterms:created>
  <dc:creator>user</dc:creator>
  <dc:description/>
  <dc:language>en-US</dc:language>
  <cp:lastModifiedBy>ETG 1 Education</cp:lastModifiedBy>
  <dcterms:modified xsi:type="dcterms:W3CDTF">2012-08-22T18:01:15Z</dcterms:modified>
  <cp:revision>81</cp:revision>
  <dc:subject/>
  <dc:title>Internship Orientation Seminar</dc:title>
</cp:coreProperties>
</file>